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4.wmf" ContentType="image/x-wmf"/>
  <Override PartName="/ppt/media/image1.wmf" ContentType="image/x-wmf"/>
  <Override PartName="/ppt/media/image7.jpeg" ContentType="image/jpeg"/>
  <Override PartName="/ppt/media/image31.wmf" ContentType="image/x-wmf"/>
  <Override PartName="/ppt/media/image11.png" ContentType="image/png"/>
  <Override PartName="/ppt/media/image29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12.png" ContentType="image/png"/>
  <Override PartName="/ppt/media/image36.wmf" ContentType="image/x-wmf"/>
  <Override PartName="/ppt/media/image38.wmf" ContentType="image/x-wmf"/>
  <Override PartName="/ppt/media/image8.wmf" ContentType="image/x-wmf"/>
  <Override PartName="/ppt/media/image13.wmf" ContentType="image/x-wmf"/>
  <Override PartName="/ppt/media/image37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53064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25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2680" y="3948840"/>
            <a:ext cx="8420040" cy="25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53064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4108680" cy="25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1142640"/>
            <a:ext cx="4108680" cy="25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2680" y="3948840"/>
            <a:ext cx="4108680" cy="25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7280" y="3948840"/>
            <a:ext cx="4108680" cy="25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53064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2711160" cy="25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89920" y="1142640"/>
            <a:ext cx="2711160" cy="25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36800" y="1142640"/>
            <a:ext cx="2711160" cy="25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2680" y="3948840"/>
            <a:ext cx="2711160" cy="25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89920" y="3948840"/>
            <a:ext cx="2711160" cy="25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36800" y="3948840"/>
            <a:ext cx="2711160" cy="25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53064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53064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53064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410868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7280" y="1142640"/>
            <a:ext cx="410868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53064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53064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4108680" cy="25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142640"/>
            <a:ext cx="410868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2680" y="3948840"/>
            <a:ext cx="4108680" cy="25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53064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410868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142640"/>
            <a:ext cx="4108680" cy="25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7280" y="3948840"/>
            <a:ext cx="4108680" cy="25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530640"/>
            <a:ext cx="84200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4108680" cy="25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142640"/>
            <a:ext cx="4108680" cy="25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2680" y="3948840"/>
            <a:ext cx="8420040" cy="25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26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716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907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9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9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9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163080" y="6286680"/>
            <a:ext cx="43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63080" y="62866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acrenier@labri.u-bordeaux.fr" TargetMode="External"/><Relationship Id="rId2" Type="http://schemas.openxmlformats.org/officeDocument/2006/relationships/hyperlink" Target="mailto:wacrenier@labri.u-bordeaux.f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2680" y="1771200"/>
            <a:ext cx="842004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Introduction</a:t>
            </a:r>
            <a:br>
              <a:rPr sz="3200"/>
            </a:b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 à la</a:t>
            </a:r>
            <a:br>
              <a:rPr sz="3200"/>
            </a:b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 programmation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114800" y="4266720"/>
            <a:ext cx="51055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ierre-André Wacrenier - LaB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wacrenier@labri.u-bordeaux.</a:t>
            </a:r>
            <a:r>
              <a:rPr b="0" lang="fr-FR" sz="2000" spc="-1" strike="noStrike" u="sng">
                <a:solidFill>
                  <a:srgbClr val="fc0128"/>
                </a:solidFill>
                <a:uFillTx/>
                <a:latin typeface="Times New Roman"/>
                <a:hlinkClick r:id="rId2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dept-info.labri.u-bordeaux.fr/~wacren/mias3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3548160"/>
            <a:ext cx="4114800" cy="18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ontrôl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terro sur 2 points (4ième sema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S sur 3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ojet sur 3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amen sur 12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Le langage C (1972)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age  compilé de "haut niveau"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iss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he de la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rogramme écrit en langage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ut être compilé et pour des machines diffé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1905120"/>
            <a:ext cx="6489720" cy="31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 en langag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 en langage ob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 en langag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095880" y="2362320"/>
            <a:ext cx="1763280" cy="3200400"/>
            <a:chOff x="6095880" y="2362320"/>
            <a:chExt cx="1763280" cy="3200400"/>
          </a:xfrm>
        </p:grpSpPr>
        <p:sp>
          <p:nvSpPr>
            <p:cNvPr id="68" name=""/>
            <p:cNvSpPr/>
            <p:nvPr/>
          </p:nvSpPr>
          <p:spPr>
            <a:xfrm>
              <a:off x="6095880" y="2362320"/>
              <a:ext cx="360" cy="680760"/>
            </a:xfrm>
            <a:prstGeom prst="line">
              <a:avLst/>
            </a:prstGeom>
            <a:noFill/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86240" y="2514600"/>
              <a:ext cx="109584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18ffd"/>
                  </a:solidFill>
                  <a:latin typeface="Arial Narrow"/>
                </a:rPr>
                <a:t>trad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5880" y="3230640"/>
              <a:ext cx="360" cy="681120"/>
            </a:xfrm>
            <a:prstGeom prst="line">
              <a:avLst/>
            </a:prstGeom>
            <a:noFill/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86600" y="3409920"/>
              <a:ext cx="123300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18ffd"/>
                  </a:solidFill>
                  <a:latin typeface="Arial Narrow"/>
                </a:rPr>
                <a:t>compi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5880" y="4013280"/>
              <a:ext cx="360" cy="681120"/>
            </a:xfrm>
            <a:prstGeom prst="line">
              <a:avLst/>
            </a:prstGeom>
            <a:noFill/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87320" y="4191120"/>
              <a:ext cx="167184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18ffd"/>
                  </a:solidFill>
                  <a:latin typeface="Arial Narrow"/>
                </a:rPr>
                <a:t>édition des lie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95880" y="4881600"/>
              <a:ext cx="360" cy="681120"/>
            </a:xfrm>
            <a:prstGeom prst="line">
              <a:avLst/>
            </a:prstGeom>
            <a:noFill/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87320" y="5099040"/>
              <a:ext cx="107136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618ffd"/>
                  </a:solidFill>
                  <a:latin typeface="Arial Narrow"/>
                </a:rPr>
                <a:t>exéc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onctions standard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451476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st_minus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 &gt;= 'a' &amp;&amp; c &lt;= 'z' 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st_majus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 &gt;= 'A' &amp;&amp; c &lt;= 'Z' 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st_lettr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st_minus(c)  || est_majus(c) 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257800" y="2286000"/>
            <a:ext cx="375300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st_chiffr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 &gt;= '0' &amp;&amp; c &lt;= '9'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valeur_chiffr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 - '0'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haînes de caractèr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284040"/>
                <a:tab algn="l" pos="762120"/>
                <a:tab algn="l" pos="8539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appelle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aîne de caractères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(chaîne)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ute séquence de caractères terminée par le caractère nul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de code 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84040"/>
                <a:tab algn="l" pos="762120"/>
                <a:tab algn="l" pos="8539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chaînes sont stockées dans des tableaux de caractère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84040"/>
                <a:tab algn="l" pos="762120"/>
                <a:tab algn="l" pos="8539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une_chaine[] ={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'U','n','e',' ','c','h','a','i','n','e'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84040"/>
                <a:tab algn="l" pos="762120"/>
                <a:tab algn="l" pos="8539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une_autre[] =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une autre chaine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; </a:t>
            </a:r>
            <a:r>
              <a:rPr b="0" i="1" lang="fr-FR" sz="1800" spc="-1" strike="noStrike">
                <a:solidFill>
                  <a:srgbClr val="000000"/>
                </a:solidFill>
                <a:latin typeface="Arial Narrow"/>
              </a:rPr>
              <a:t>/* le 0 est insérer automatiquemen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284040"/>
                <a:tab algn="l" pos="762120"/>
                <a:tab algn="l" pos="8539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ièg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84040"/>
                <a:tab algn="l" pos="762120"/>
                <a:tab algn="l" pos="8539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chaîne doit se terminer par le caractère nul :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un_tableau[] ={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'N','o','n',' ','c','h','a','i','n','e'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284040"/>
                <a:tab algn="l" pos="762120"/>
                <a:tab algn="l" pos="8539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"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"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st une chaîne,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'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'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st un caractèr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84040"/>
                <a:tab algn="l" pos="762120"/>
                <a:tab algn="l" pos="8539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caractère nul n'est pas le caractè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'0'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onctions standard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trlen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haine[])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/* longueur de la chaîne 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trcpy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estination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ource[]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/* copie source dans destination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nsert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haine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os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ource[]) ;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/* insère chaîne en position pos dans sourc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emov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ebut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ongueur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ource[]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/* supprime dans source </a:t>
            </a:r>
            <a:r>
              <a:rPr b="0" i="1" lang="fr-FR" sz="2000" spc="-1" strike="noStrike">
                <a:solidFill>
                  <a:srgbClr val="000000"/>
                </a:solidFill>
                <a:latin typeface="Arial Narrow"/>
              </a:rPr>
              <a:t>longueu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caractères à partir de </a:t>
            </a:r>
            <a:r>
              <a:rPr b="0" i="1" lang="fr-FR" sz="2000" spc="-1" strike="noStrike">
                <a:solidFill>
                  <a:srgbClr val="000000"/>
                </a:solidFill>
                <a:latin typeface="Arial Narrow"/>
              </a:rPr>
              <a:t>débu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match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motif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ource[]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/* donne la première position de la chaîne motif dans source (-1 sinon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eplac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motif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ar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ource[]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/* remplace toutes les occurrences de motif dans source par "par"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Longueur d'une chaîn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724120" y="1523880"/>
            <a:ext cx="56577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a chaîne "123456789" a pour longueur 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trlen(char source[]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i = 0 ; source[i] ; i++ )    /* source[i] != 0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opier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42680" y="1143000"/>
            <a:ext cx="67244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it une chaîne source, recopier la chaîne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trcpy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estination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ource[]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i = 0 ; source[i] !=0  ; i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estination[i] = source[i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estination[i] =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16240" y="3886200"/>
            <a:ext cx="48182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strcpy(</a:t>
            </a: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destination[], </a:t>
            </a: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source[]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i = 0 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(destination[i] = source[i]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i++ 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</a:rPr>
              <a:t>Une affectation est aussi une expression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Mise en forme de text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opier une chaîne dans une autre en remplaçant par un seul espace dans toute suite d'espaces consécutif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"Ich   bin    ein   berliner !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"Ich bin ein berliner !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nettoyer_espace(</a:t>
            </a: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destination[], </a:t>
            </a: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source[]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s = 0 , d = 0 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(source[s] !=0 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(source[s] == '  ' &amp;&amp; source[s+1] == '  ' 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s++ ;/* passer les blancs 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destination[d] = source[s] 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s++ 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d++ 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destination[i] = 0 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Rechercher une chaîne dans une autr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800600" y="1142640"/>
            <a:ext cx="411480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match(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motif[],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source[]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pos = 0, i = 0 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do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(motif[i] == 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pos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els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(source[pos+i] == motif[i]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i++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els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os++ 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i = 0 ;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source[pos]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-1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" y="1401840"/>
            <a:ext cx="43434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tourne la position de la première occurrence d'un motif dans une chaî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match("456","012345689"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retourn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Matric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504828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matrice est représentée par un "tableau de tableaux"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laration du typ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at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#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efin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Hauteur 4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#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efin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argeur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typede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matrice [Hauteur][Largeur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laration d'une matrice :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atrice m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ccès à l'élément M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[i]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5867280" y="1295280"/>
            <a:ext cx="3048120" cy="4269960"/>
            <a:chOff x="5867280" y="1295280"/>
            <a:chExt cx="3048120" cy="4269960"/>
          </a:xfrm>
        </p:grpSpPr>
        <p:graphicFrame>
          <p:nvGraphicFramePr>
            <p:cNvPr id="586" name=""/>
            <p:cNvGraphicFramePr/>
            <p:nvPr/>
          </p:nvGraphicFramePr>
          <p:xfrm>
            <a:off x="6095880" y="1752480"/>
            <a:ext cx="2560680" cy="32306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5880" y="1752480"/>
                      <a:ext cx="2560680" cy="323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8" name=""/>
            <p:cNvSpPr/>
            <p:nvPr/>
          </p:nvSpPr>
          <p:spPr>
            <a:xfrm>
              <a:off x="6248520" y="5181480"/>
              <a:ext cx="20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7057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Larg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610480" y="175248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534520" y="1981080"/>
              <a:ext cx="380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Hau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867280" y="28954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10280" y="1295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Afficher une matric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447920" y="121932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afficher(matrice m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igne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olon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, c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l = 0 ; l &lt; ligne ; l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 /* pour chaque lign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c = 0 ; c &lt; colonne ; c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nft("%lf", m[l][c] 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ntf("\n"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/* fo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6219720" y="3048120"/>
          <a:ext cx="239076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19720" y="3048120"/>
                    <a:ext cx="23907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7162920" y="1539720"/>
            <a:ext cx="1676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lonne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gne 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opier une matrice dans une autr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95280" y="3886200"/>
            <a:ext cx="810288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opier(matrice destination, matrice source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igne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olonne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, c 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l = 0 ; l &lt; ligne ; l++) /* pour chaque lign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c = 0 ; c &lt; colonne ; c++) /* pour chaque élément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estination[l][c] = source[l][c] 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2133720" y="1081080"/>
          <a:ext cx="187956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81080"/>
                    <a:ext cx="18795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"/>
          <p:cNvSpPr/>
          <p:nvPr/>
        </p:nvSpPr>
        <p:spPr>
          <a:xfrm>
            <a:off x="1066680" y="1676520"/>
            <a:ext cx="216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lonne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igne =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6934320" y="1081080"/>
          <a:ext cx="2000160" cy="251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1081080"/>
                    <a:ext cx="20001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"/>
          <p:cNvSpPr/>
          <p:nvPr/>
        </p:nvSpPr>
        <p:spPr>
          <a:xfrm>
            <a:off x="2666880" y="3367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495680" y="3367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stination (av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162920" y="3367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stination (aprè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4343400" y="1081080"/>
          <a:ext cx="1870200" cy="2498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1081080"/>
                    <a:ext cx="187020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ommes et Produit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ressions algébriques simpl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th   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iorités des opér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 et / sont prioritaires par rapport à + et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iorité à gauche pour les opérateurs de niveau é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fr-FR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b + c = (a </a:t>
            </a:r>
            <a:r>
              <a:rPr b="0" lang="fr-FR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b) +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/c + 3*a - 4*b = (((a</a:t>
            </a:r>
            <a:r>
              <a:rPr b="0" lang="fr-FR" sz="2400" spc="-1" strike="noStrike">
                <a:solidFill>
                  <a:srgbClr val="339933"/>
                </a:solidFill>
                <a:latin typeface="Times New Roman"/>
              </a:rPr>
              <a:t>*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)/c) + (3*a)) - (4*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339933"/>
                </a:solidFill>
                <a:latin typeface="Times New Roman"/>
              </a:rPr>
              <a:t>/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*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(a/b) *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27200" y="2171880"/>
            <a:ext cx="319572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Matrices diagonal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55054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st_diagonale(matrice a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i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, c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l = 0 ; l &lt; dim ; l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c = 0 ; c &lt; dim ; c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a[l][c] &amp;&amp; l  != 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5638680" y="1600200"/>
          <a:ext cx="1828800" cy="198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00200"/>
                    <a:ext cx="18288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"/>
          <p:cNvSpPr/>
          <p:nvPr/>
        </p:nvSpPr>
        <p:spPr>
          <a:xfrm>
            <a:off x="4800600" y="4267080"/>
            <a:ext cx="3905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l = 0 ; l &lt; dim ; l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c = 0 ; 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c &lt; l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; 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(a[l][c] || a[c][l]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0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Matrices symétriqu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76200" y="1599840"/>
            <a:ext cx="497232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est_symetrique(matrice a,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di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l, c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l = 0 ; l &lt; dim ; l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c = 0 ; c &lt; dim ; 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(a[l][c] != a[c][l]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0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1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47920" y="5181480"/>
            <a:ext cx="2685960" cy="952560"/>
          </a:xfrm>
          <a:prstGeom prst="rect">
            <a:avLst/>
          </a:prstGeom>
          <a:noFill/>
          <a:ln w="64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l = 0 ; l &lt; dim ; l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c = 0 ; 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c &lt; l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; 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668920" y="2158920"/>
            <a:ext cx="24084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Matrice triangulair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5257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st_triangulaire_inf(matrice a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i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, c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l = 0 ; l &lt; dim ; l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c = 0 ; c &lt; l; c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a[l][c])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6248520" y="2214720"/>
          <a:ext cx="1971720" cy="213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214720"/>
                    <a:ext cx="19717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Produit de matric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3753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e dimension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a_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e dimension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a_l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56280" y="5246640"/>
            <a:ext cx="3861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[l][c] =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k=0 ; k &lt; ca_lb ; k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[l][c] = p[l][c] + a[l][k] * b[k][c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3200400" y="1447920"/>
          <a:ext cx="5486400" cy="378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447920"/>
                    <a:ext cx="5486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436680" y="2971800"/>
                <a:ext cx="262872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sub>
                        </m:sSub>
                      </m:sup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k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Produit de matric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057400" y="1219320"/>
            <a:ext cx="55627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roduit(matrice p, matrice a, matrice b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a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a_lb, 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, l, k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l=0 ; l &lt; la ; l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c = 0 ; c &lt; cb ; c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[l][c] =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k=0 ; k &lt; ca_lb ; k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[l][c] = p[l][c] + a[l][k] * b[k][c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/* produit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arré d'une matric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45147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arre(matrice a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i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oduit(a,a,a,dim,dim,dim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arre(matrice a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i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atrice aux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opier(aux, a, dim, dim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oduit(a, aux, aux, dim, dim, dim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5410080" y="1143000"/>
          <a:ext cx="235764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143000"/>
                    <a:ext cx="235764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"/>
          <p:cNvSpPr/>
          <p:nvPr/>
        </p:nvSpPr>
        <p:spPr>
          <a:xfrm>
            <a:off x="434340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05520" y="4248000"/>
            <a:ext cx="426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main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matrice m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/* placer la matrice identité dans m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carre(m,3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afficher(m,3,3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Résolution d'un système d'équation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568440"/>
                <a:tab algn="l" pos="1330200"/>
                <a:tab algn="l" pos="2092320"/>
                <a:tab algn="l" pos="2955960"/>
                <a:tab algn="l" pos="3718080"/>
                <a:tab algn="l" pos="45720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2y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3z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68440"/>
                <a:tab algn="l" pos="1330200"/>
                <a:tab algn="l" pos="2092320"/>
                <a:tab algn="l" pos="2955960"/>
                <a:tab algn="l" pos="3718080"/>
                <a:tab algn="l" pos="45720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3y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68440"/>
                <a:tab algn="l" pos="1330200"/>
                <a:tab algn="l" pos="2092320"/>
                <a:tab algn="l" pos="2955960"/>
                <a:tab algn="l" pos="3718080"/>
                <a:tab algn="l" pos="45720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2z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68440"/>
                <a:tab algn="l" pos="1330200"/>
                <a:tab algn="l" pos="2092320"/>
                <a:tab algn="l" pos="2955960"/>
                <a:tab algn="l" pos="3718080"/>
                <a:tab algn="l" pos="45720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68440"/>
                <a:tab algn="l" pos="1330200"/>
                <a:tab algn="l" pos="2092320"/>
                <a:tab algn="l" pos="2955960"/>
                <a:tab algn="l" pos="3718080"/>
                <a:tab algn="l" pos="45720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2y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3z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68440"/>
                <a:tab algn="l" pos="1330200"/>
                <a:tab algn="l" pos="2092320"/>
                <a:tab algn="l" pos="2955960"/>
                <a:tab algn="l" pos="3718080"/>
                <a:tab algn="l" pos="45720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5z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-17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(b') = (b - 2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68440"/>
                <a:tab algn="l" pos="1330200"/>
                <a:tab algn="l" pos="2092320"/>
                <a:tab algn="l" pos="2955960"/>
                <a:tab algn="l" pos="3718080"/>
                <a:tab algn="l" pos="45720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7y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11z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-47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(c') = (c - 3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68440"/>
                <a:tab algn="l" pos="1330200"/>
                <a:tab algn="l" pos="2092320"/>
                <a:tab algn="l" pos="2955960"/>
                <a:tab algn="l" pos="3718080"/>
                <a:tab algn="l" pos="45720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68440"/>
                <a:tab algn="l" pos="1330200"/>
                <a:tab algn="l" pos="2092320"/>
                <a:tab algn="l" pos="2955960"/>
                <a:tab algn="l" pos="3718080"/>
                <a:tab algn="l" pos="45720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2y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3z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68440"/>
                <a:tab algn="l" pos="1330200"/>
                <a:tab algn="l" pos="2092320"/>
                <a:tab algn="l" pos="2955960"/>
                <a:tab algn="l" pos="3718080"/>
                <a:tab algn="l" pos="45720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5z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-17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(b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68440"/>
                <a:tab algn="l" pos="1330200"/>
                <a:tab algn="l" pos="2092320"/>
                <a:tab algn="l" pos="2955960"/>
                <a:tab algn="l" pos="3718080"/>
                <a:tab algn="l" pos="45720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24z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7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(c' - 7b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68440"/>
                <a:tab algn="l" pos="1330200"/>
                <a:tab algn="l" pos="2092320"/>
                <a:tab algn="l" pos="2955960"/>
                <a:tab algn="l" pos="3718080"/>
                <a:tab algn="l" pos="45720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43040" y="2666880"/>
            <a:ext cx="7410240" cy="0"/>
          </a:xfrm>
          <a:prstGeom prst="line">
            <a:avLst/>
          </a:prstGeom>
          <a:ln w="38160">
            <a:solidFill>
              <a:srgbClr val="d2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43040" y="4495680"/>
            <a:ext cx="7410240" cy="0"/>
          </a:xfrm>
          <a:prstGeom prst="line">
            <a:avLst/>
          </a:prstGeom>
          <a:ln w="38160">
            <a:solidFill>
              <a:srgbClr val="d2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Algorithme de Gaus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24868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trée : une matrice M de dimensions l . c (où c &gt;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i = 0,1,2,…,l-2 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ouver pivot tel que pivot &gt;= i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[i][pivot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!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changer les lignes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[i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[pivo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k = i+1 … l-1 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mplacer la lign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[k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par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[k] - (m[k][i]/m[i][i]) * m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onction </a:t>
            </a:r>
            <a:r>
              <a:rPr b="0" i="1" lang="en-US" sz="3200" spc="-1" strike="noStrike">
                <a:solidFill>
                  <a:srgbClr val="339933"/>
                </a:solidFill>
                <a:latin typeface="Times New Roman"/>
              </a:rPr>
              <a:t>gaus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343240" y="1142640"/>
            <a:ext cx="60386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gauss(matrice m,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l,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c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i, j, k, pivot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x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i =  0 ; i &lt; l -1 ; i++)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/* déterminer le pivot le plus grand possibl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ivot = i 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k = i + 1 ; k &lt;  l ; 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(fabs(m[k][i]) &gt; fabs(m[pivot][i]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ivot = k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42680" y="5257800"/>
            <a:ext cx="8420040" cy="41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339933"/>
                </a:solidFill>
                <a:latin typeface="Times New Roman"/>
              </a:rPr>
              <a:t>Gaus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342880" y="380520"/>
            <a:ext cx="6800760" cy="499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(pivot &gt; i) {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/* échanger les lignes m[i] et m[pivot]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k = i  ; k &lt;  c ; k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x = m[pivot][k]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m[pivot][k] = m[i][k]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m[i][k] = x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k = i + 1 ; k &lt; l ; k++){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/* calculer la ligne m[k]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x = m[k][i] / m[i][i]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 j = i  ; j &lt; c 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m[k][j] = m[k][j] -  x * m[i][j]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 /* calculer la lign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/* for i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 /* gaus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Parenthésage des expression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*b/c + 3*a - 4*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((a*b)/c) + (3*a)) - (4*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a - b / c) * d * (e +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/ b / c est  égal  a /(b * c) mais pas à  (a / (b / c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mar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fonction puissance n'existe pas en langage C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 faut la programm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Tableaux &amp; Structur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typedef struc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x, y 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poids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i = 0 , j = 1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tab[10] ; /* tableau de 10 points pondéré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tab[i].x = 1.23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tab[i].y = 12.4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tab[i].poids = 101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tab[j] = tab[i]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95480" y="1295280"/>
            <a:ext cx="62676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lculer le barycentre d'un ensemble de points pondérés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lculer le point le plus proche d'un autre point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lculer les deux points les plus proch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Barycentre d'un ensemble de points pondéré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trée : un tableau de points pondérés et sa tail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rtie : le barycentre de cet ensem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arycentr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t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ai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 = pt[0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i = 1 ; i &lt; taille 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 = bary2(res, pt[i]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e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705200" y="3886200"/>
            <a:ext cx="4870440" cy="2397240"/>
          </a:xfrm>
          <a:prstGeom prst="rect">
            <a:avLst/>
          </a:prstGeom>
          <a:solidFill>
            <a:srgbClr val="e4fef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6920"/>
                <a:tab algn="l" pos="3808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i = 1 ; i &lt; taille 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6920"/>
                <a:tab algn="l" pos="3808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.x = res.x + pt[i].poids * pt[i].x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6920"/>
                <a:tab algn="l" pos="3808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.y = res.y + pt[i].poids * pt[i].y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6920"/>
                <a:tab algn="l" pos="3808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.poids = res.poids + pt[i].poids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6920"/>
                <a:tab algn="l" pos="3808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6920"/>
                <a:tab algn="l" pos="3808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.x = res.x /res.poid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6920"/>
                <a:tab algn="l" pos="3808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.y = res.y /res.poid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Point le plus proche d'un autre point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istanc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qrt( (a.x - b.x) * (a.x - b.x) + (a.y - b.y) * (a.y - b.y) 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lus_proch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t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aille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ndice_min =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i = 1 ; i &lt; taille ; i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distance(x, pt[indice_min]) &gt; distance(x, pt[i]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dice_min =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t[indice_min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/* Optimisation des appels à distance()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Les deux points les plus proch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es_plus_proches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t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aille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[0] = pt[0] ; res[1] = pt[1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 = 0 ; i &lt; taille ; i 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 = plus_proche(pt[i], pt, taille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distance(res[0], res[1] ) &gt; distance (pt[i],r)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[0] = pt[i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[1] = r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Les deux points les plus proch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es_plus_proches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t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aille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[0] = pt[0] ; res[1] = pt[1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fr-FR" sz="2400" spc="-1" strike="noStrike">
                <a:solidFill>
                  <a:srgbClr val="fc0128"/>
                </a:solidFill>
                <a:latin typeface="Arial Narrow"/>
              </a:rPr>
              <a:t>i = taille-1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 ;</a:t>
            </a:r>
            <a:r>
              <a:rPr b="1" lang="fr-FR" sz="2400" spc="-1" strike="noStrike">
                <a:solidFill>
                  <a:srgbClr val="fc0128"/>
                </a:solidFill>
                <a:latin typeface="Arial Narrow"/>
              </a:rPr>
              <a:t> i &gt; 0 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1" lang="fr-FR" sz="2400" spc="-1" strike="noStrike">
                <a:solidFill>
                  <a:srgbClr val="fc0128"/>
                </a:solidFill>
                <a:latin typeface="Arial Narrow"/>
              </a:rPr>
              <a:t> i--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 = plus_proche(pt[i], pt, </a:t>
            </a:r>
            <a:r>
              <a:rPr b="1" lang="fr-FR" sz="2400" spc="-1" strike="noStrike">
                <a:solidFill>
                  <a:srgbClr val="fc0128"/>
                </a:solidFill>
                <a:latin typeface="Arial Narrow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distance(res[0], res[1] ) &gt; distance (pt[i],r)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[0] = pt[i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[1] = r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/* complexité : Taille²/2 comparaisons 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Tri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trée : un tableau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a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contenant ensemble de n points pondé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rtie : un tableau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contenant une permutation des éléments de tab ordonnés par leur poids :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[i] &lt;= res[i+1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gorithme :  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ab (poids)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 (poi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5 2 6 8 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3 5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2 6 8 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3 5 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6 8 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 3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3 5 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8 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 3 5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3 5 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 3 5 6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3 5 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 2 3 5 6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Ajouter un à un les éléments de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tab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 à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res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 tout en maintenant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res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 ordonn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rdonner un tableau de point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828440" y="1142640"/>
            <a:ext cx="746748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ordonner_suivant_poids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ab[]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=0; i &lt; n 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serer_suivant_poids(tab[i], res, i) ; /* i est la taille de re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v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void inserer_suivant_poids(   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Insérer un point suivant le poid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trées : un point p et un tableau ordonné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 = 5, n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.poid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8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9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0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ouver l'emplacement de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8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9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0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fc0128"/>
                </a:solidFill>
                <a:latin typeface="Arial Narrow"/>
              </a:rPr>
              <a:t>4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ire de la place pour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8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9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0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fc0128"/>
                </a:solidFill>
                <a:latin typeface="Arial Narrow"/>
              </a:rPr>
              <a:t>4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copier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400" spc="-1" strike="noStrike">
                <a:solidFill>
                  <a:srgbClr val="fc0128"/>
                </a:solidFill>
                <a:latin typeface="Arial Narrow"/>
              </a:rPr>
              <a:t>5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8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9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0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000" spc="-1" strike="noStrike">
                <a:solidFill>
                  <a:srgbClr val="fc0128"/>
                </a:solidFill>
                <a:latin typeface="Arial Narrow"/>
              </a:rPr>
              <a:t>4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Insérer un point suivant le poid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248680" cy="499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nserer_suivant_poids(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= 0, j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 &lt; n &amp;&amp; p.poids &gt; res[i].poids)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/* trouver la place de p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++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j = n ; j &gt; i  ; j--)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/* faire de la place pour p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[ j ] = t[ j-1 ] ;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[i] = p ;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/* recopier p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943600" y="1447920"/>
            <a:ext cx="3524400" cy="1828800"/>
          </a:xfrm>
          <a:prstGeom prst="rect">
            <a:avLst/>
          </a:prstGeom>
          <a:solidFill>
            <a:srgbClr val="ebfffd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serer_suivant_p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p  -8.3 -8 4   res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  n   2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Narrow"/>
              </a:rPr>
              <a:t>ordonner _suivant_poids(P,T,8)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91680" y="1447920"/>
            <a:ext cx="5257800" cy="3673440"/>
          </a:xfrm>
          <a:prstGeom prst="rect">
            <a:avLst/>
          </a:prstGeom>
          <a:solidFill>
            <a:srgbClr val="ebfffd"/>
          </a:solidFill>
          <a:ln w="28440">
            <a:solidFill>
              <a:srgbClr val="333399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aille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059520" y="3505320"/>
            <a:ext cx="3600360" cy="1828800"/>
          </a:xfrm>
          <a:prstGeom prst="rect">
            <a:avLst/>
          </a:prstGeom>
          <a:solidFill>
            <a:srgbClr val="ebfffd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ordonner_suivant_p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 tab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    r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n   8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696160" y="3954600"/>
            <a:ext cx="398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020000" y="4879800"/>
            <a:ext cx="398520" cy="368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59520" y="4422600"/>
            <a:ext cx="3618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5800" y="2057400"/>
            <a:ext cx="523404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908680" y="2405160"/>
            <a:ext cx="35244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-762120" y="2859120"/>
            <a:ext cx="6670800" cy="2170080"/>
            <a:chOff x="-762120" y="2859120"/>
            <a:chExt cx="6670800" cy="2170080"/>
          </a:xfrm>
        </p:grpSpPr>
        <p:graphicFrame>
          <p:nvGraphicFramePr>
            <p:cNvPr id="678" name=""/>
            <p:cNvGraphicFramePr/>
            <p:nvPr/>
          </p:nvGraphicFramePr>
          <p:xfrm>
            <a:off x="990720" y="2859120"/>
            <a:ext cx="4917960" cy="13622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6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2859120"/>
                      <a:ext cx="4917960" cy="13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0" name=""/>
            <p:cNvSpPr/>
            <p:nvPr/>
          </p:nvSpPr>
          <p:spPr>
            <a:xfrm>
              <a:off x="-762120" y="4575240"/>
              <a:ext cx="919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611640" y="304812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012680" y="2405160"/>
            <a:ext cx="3985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990720" y="3959280"/>
          <a:ext cx="4917960" cy="136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959280"/>
                    <a:ext cx="491796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"/>
          <p:cNvSpPr/>
          <p:nvPr/>
        </p:nvSpPr>
        <p:spPr>
          <a:xfrm>
            <a:off x="6112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743040" y="3504960"/>
            <a:ext cx="6114960" cy="6094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924680" y="4221000"/>
            <a:ext cx="381240" cy="6588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05920" y="4879800"/>
            <a:ext cx="0" cy="6829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1012320" y="5562720"/>
            <a:ext cx="7293240" cy="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742680" y="4422240"/>
            <a:ext cx="269640" cy="11401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924680" y="2057400"/>
            <a:ext cx="381240" cy="28224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543880" y="1969920"/>
            <a:ext cx="398520" cy="3686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324480" y="1917720"/>
            <a:ext cx="1067040" cy="3682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58000" y="1916280"/>
            <a:ext cx="322200" cy="3682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Première fonction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618ffd"/>
                </a:solidFill>
                <a:latin typeface="Arial Narrow"/>
              </a:rPr>
              <a:t>lint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carre(</a:t>
            </a:r>
            <a:r>
              <a:rPr b="0" lang="fr-FR" sz="28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 x)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0" lang="fr-FR" sz="6600" spc="-1" strike="noStrike" baseline="-25000">
                <a:solidFill>
                  <a:srgbClr val="000000"/>
                </a:solidFill>
                <a:latin typeface="Arial Narrow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 x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lang="fr-FR" sz="2400" spc="-1" strike="noStrike">
                <a:solidFill>
                  <a:srgbClr val="9900ff"/>
                </a:solidFill>
                <a:latin typeface="Times New Roman"/>
              </a:rPr>
              <a:t>no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arr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ute fonction possède 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lang="fr-FR" sz="2400" spc="-1" strike="noStrike">
                <a:solidFill>
                  <a:srgbClr val="9900ff"/>
                </a:solidFill>
                <a:latin typeface="Times New Roman"/>
              </a:rPr>
              <a:t>résulta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x*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2400" spc="-1" strike="noStrike">
                <a:solidFill>
                  <a:srgbClr val="9900ff"/>
                </a:solidFill>
                <a:latin typeface="Times New Roman"/>
              </a:rPr>
              <a:t>typé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fr-FR" sz="2400" spc="-1" strike="noStrike">
                <a:solidFill>
                  <a:srgbClr val="9900ff"/>
                </a:solidFill>
                <a:latin typeface="Times New Roman"/>
              </a:rPr>
              <a:t>paramètr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9900ff"/>
                </a:solidFill>
                <a:latin typeface="Times New Roman"/>
              </a:rPr>
              <a:t>typé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st une description d'un format de donné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’est le mode d’emploi d’une case mémo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les entiers codés sur 32 bits [-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2133720"/>
            <a:ext cx="304920" cy="1295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Narrow"/>
              </a:rPr>
              <a:t>ordonner _suivant_poids(P,P,8)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91680" y="1447920"/>
            <a:ext cx="5257800" cy="3673440"/>
          </a:xfrm>
          <a:prstGeom prst="rect">
            <a:avLst/>
          </a:prstGeom>
          <a:solidFill>
            <a:srgbClr val="ebfffd"/>
          </a:solidFill>
          <a:ln w="28440">
            <a:solidFill>
              <a:srgbClr val="333399"/>
            </a:solidFill>
            <a:miter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aille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59520" y="3505320"/>
            <a:ext cx="3600360" cy="1828800"/>
          </a:xfrm>
          <a:prstGeom prst="rect">
            <a:avLst/>
          </a:prstGeom>
          <a:solidFill>
            <a:srgbClr val="ebfffd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ordonner_suivant_p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 tab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    r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n   8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696160" y="3954600"/>
            <a:ext cx="398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020000" y="4879800"/>
            <a:ext cx="398520" cy="368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59520" y="4422600"/>
            <a:ext cx="3618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15800" y="2057400"/>
            <a:ext cx="523404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877000" y="1425600"/>
            <a:ext cx="3524040" cy="1828800"/>
          </a:xfrm>
          <a:prstGeom prst="rect">
            <a:avLst/>
          </a:prstGeom>
          <a:solidFill>
            <a:srgbClr val="ebfffd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serer_suivant_p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p  -8.3 -8 4   res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  n   2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477280" y="1947960"/>
            <a:ext cx="398520" cy="3682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257880" y="1895400"/>
            <a:ext cx="1066680" cy="3682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91400" y="1893960"/>
            <a:ext cx="322200" cy="3682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842080" y="2382840"/>
            <a:ext cx="352404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-762120" y="2859120"/>
            <a:ext cx="6670800" cy="2170080"/>
            <a:chOff x="-762120" y="2859120"/>
            <a:chExt cx="6670800" cy="2170080"/>
          </a:xfrm>
        </p:grpSpPr>
        <p:graphicFrame>
          <p:nvGraphicFramePr>
            <p:cNvPr id="708" name=""/>
            <p:cNvGraphicFramePr/>
            <p:nvPr/>
          </p:nvGraphicFramePr>
          <p:xfrm>
            <a:off x="990720" y="2859120"/>
            <a:ext cx="4917960" cy="13622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7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2859120"/>
                      <a:ext cx="4917960" cy="13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0" name=""/>
            <p:cNvSpPr/>
            <p:nvPr/>
          </p:nvSpPr>
          <p:spPr>
            <a:xfrm>
              <a:off x="-762120" y="4575240"/>
              <a:ext cx="919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611640" y="304812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12680" y="2405160"/>
            <a:ext cx="3985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924680" y="4221000"/>
            <a:ext cx="381240" cy="6588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305920" y="4879800"/>
            <a:ext cx="0" cy="6829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1012320" y="5562720"/>
            <a:ext cx="7293240" cy="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742680" y="3504960"/>
            <a:ext cx="269640" cy="20574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924680" y="2057400"/>
            <a:ext cx="381240" cy="28224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0" y="4221000"/>
            <a:ext cx="1447920" cy="6588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012680" y="556272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faut vérifier soigneusement le déroulement du program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Améliorer le tri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ffrir la possibilité de trier suivant différentes caractérist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Times New Roman"/>
              <a:buChar char="•"/>
              <a:tabLst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Passage d'une fonction de comparaison en paramè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minuer la complexité de la recherche de la 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Times New Roman"/>
              <a:buChar char="•"/>
              <a:tabLst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Utiliser une recherche dichotom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Diminuer le nombre d'affectation =&gt; changer l'algorith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ordonner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uperieur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ab[ ]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[ 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=0; i &lt; n 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serer (superieur, tab[i], res, i) ; /* i est la taille de re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Recherche dichotomique dans un tableau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nserer(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uperieur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[ 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eb = 0 , fin = n-1,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fin &gt; deb) {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/* trouver la place de p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 = (deb + fin) / 2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superieur(p, res[i]) )  deb = i +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els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fin = i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j = n ; j &gt; deb  ; j--)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/* faire de la place pour p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[ j ] = t[ j-1 ] ;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[ deb ] = p ;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/* recopier p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omparaisons de points pondéré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st_plus_lourd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x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x.poids &gt; y.poid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st_plus_leger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x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x.poids &lt; y.poid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st_plus_eloign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x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y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istance({0,0,1},x)  &gt; distance({0,0,1}, y)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Utilisation des fonctions de comparaison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#defin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MAX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main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es_points[MAX] ,  par_poids[MAX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ar_eloignement [MAX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aill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/* …. initialisation de mes_points et de taille …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ordonner(est_plus_lourd, mes_points, par_poids, taille) 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ordonner(est_plus_eloigne, mes_points, par_eloignement, taille)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/* …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Représentation des polynôm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742680" y="1143000"/>
            <a:ext cx="842004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.3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 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#defin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EGRE_MAX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typede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olynome [DEGRE_MAX + 1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lynome P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repré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4559400" y="1155600"/>
          <a:ext cx="3898800" cy="90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9400" y="1155600"/>
                    <a:ext cx="38988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4876920" y="2057400"/>
                <a:ext cx="317952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DEGRE_MAX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3" name=""/>
          <p:cNvSpPr/>
          <p:nvPr/>
        </p:nvSpPr>
        <p:spPr>
          <a:xfrm>
            <a:off x="6019920" y="4626000"/>
            <a:ext cx="30477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typedef struc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egr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oef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poly_coef [NB_COEF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464840" y="4626000"/>
            <a:ext cx="39376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typedef struc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egr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oef[DEGRE_MAX + 1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poly_deg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alcul du degré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563868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dice du plus grand coefficient non n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egr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lynom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d = DEGRE_MAX ; d &gt; 0 &amp;&amp; ! p[d] ; d--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52280" y="5181480"/>
            <a:ext cx="41148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Polynôme n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267080" y="4343400"/>
            <a:ext cx="4419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st_nul(polynome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egre(p) == 0 &amp;&amp; p[0] ==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opier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676520" y="1142640"/>
            <a:ext cx="748656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opier(polynome destination, polynome 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 = 0 ; i &lt;= DEGRE_MAX 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estination[i] = source[i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23960" y="4991040"/>
            <a:ext cx="2933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Initiali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267080" y="3886200"/>
            <a:ext cx="42674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AZ(polynome 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 = 0 ; i &lt;= DEGRE_MAX 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[i] = 0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Évaluer un polynôme : méthode de Hörner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133720" y="3200400"/>
            <a:ext cx="5333760" cy="331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valeur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x,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olynome 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 =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 = degre(p) ; i &gt;= 0 ; i-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 = s * x + p[i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189160" y="1346040"/>
            <a:ext cx="598176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 Narrow"/>
              </a:rPr>
              <a:t>k 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Arial Narrow"/>
              </a:rPr>
              <a:t>k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 + 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 Narrow"/>
              </a:rPr>
              <a:t>k-1 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Arial Narrow"/>
              </a:rPr>
              <a:t>k-1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…+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 Narrow"/>
              </a:rPr>
              <a:t>2 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Arial Narrow"/>
              </a:rPr>
              <a:t>2 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+ 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x + 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fr-FR" sz="36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...(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0 .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+ 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 Narrow"/>
              </a:rPr>
              <a:t>k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+ 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 Narrow"/>
              </a:rPr>
              <a:t>k -1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+ 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 Narrow"/>
              </a:rPr>
              <a:t>k -2</a:t>
            </a: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+ ...</a:t>
            </a:r>
            <a:r>
              <a:rPr b="0" lang="fr-FR" sz="36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+ 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fr-FR" sz="40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+ 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 Narrow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omm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742680" y="1143000"/>
            <a:ext cx="84200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somme(polynome res, polynome p, polynome 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i = 0 ; i &lt;= DEGRE_MAX ; i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res[i] = p[i] + q[i]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52400" y="3200400"/>
            <a:ext cx="84200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Prod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52400" y="3733920"/>
            <a:ext cx="8420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*q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-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*-4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(3*5 + -2*-4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(3*6 + -2*5 + 1*-4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(-2 * 6 + 1 * 5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(1*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1028880" y="4932360"/>
                <a:ext cx="701172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m>
                          <m:mr>
                            <m:e/>
                            <m:e/>
                            <m:e/>
                            <m:e/>
                          </m:mr>
                        </m: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Affectation - Variabl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variable est une case mémoire qui possè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nom = adresse de la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type = forme de la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valeur = contenu de la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1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laration d'une variable :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type nom_de_variabl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 ;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a, A ;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umul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ectation d'une variable :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nom_de_variable = express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n = 2 ;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a = n + 2 ;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n = n+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913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Une affectation n'est pas une équation, c'est une ac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) Calculer la valeur de l'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) Ranger le résultat dans la case mémoire désignée par le nom de la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Produit de polynôm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produit(polynome res, polynome p, polynome 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i, j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i = 0 ; i &lt;= DEGRE_MAX 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res[i] = 0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j = 0 ; j &lt;= i ; j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res[i] = res[i] + p[i] * q[i-j]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plexité : pour calculer un r[i] on fait i + 1 sommes et i + 1 multi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1" lang="fr-FR" sz="2000" spc="-1" strike="noStrike">
                <a:solidFill>
                  <a:srgbClr val="fc0128"/>
                </a:solidFill>
                <a:latin typeface="Times New Roman"/>
              </a:rPr>
              <a:t>DEGRE_MAX</a:t>
            </a:r>
            <a:r>
              <a:rPr b="1" lang="fr-FR" sz="2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fr-FR" sz="2000" spc="-1" strike="noStrike">
                <a:solidFill>
                  <a:srgbClr val="fc0128"/>
                </a:solidFill>
                <a:latin typeface="Times New Roman"/>
              </a:rPr>
              <a:t> opéra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Le nombre d'opérations ne dépend pas du degré des polynô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Produit de polynôm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961640" y="1143000"/>
            <a:ext cx="65725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roduit(polynome res, polynome p, polynome 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, j , deg_p, deg_q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eg_p =  degre(p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eg_q = degre(q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AZ(res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deg_p + deg_q &lt;= DEGRE_MAX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 = 0 ; i &lt;= deg_p 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p[i] != 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j = i ; j &lt;= deg_q ; j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[j] = res[j] + p[i] * q[j-i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9558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Polynôme d'Euler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95320" y="2819520"/>
            <a:ext cx="382896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uler(polynome p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lynome a, b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AZ(a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AZ(b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[0] = b[0] 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714840" y="1279440"/>
                <a:ext cx="25336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58" name=""/>
          <p:cNvSpPr/>
          <p:nvPr/>
        </p:nvSpPr>
        <p:spPr>
          <a:xfrm>
            <a:off x="4952880" y="3352680"/>
            <a:ext cx="3143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=1 ; i &lt;= n ; i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[i] = -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it(p,a,b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pier(b,p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[i] =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4876920" y="1066680"/>
            <a:ext cx="4012920" cy="3353040"/>
          </a:xfrm>
          <a:prstGeom prst="rect">
            <a:avLst/>
          </a:prstGeom>
          <a:ln w="0">
            <a:noFill/>
          </a:ln>
        </p:spPr>
      </p:pic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Interpolation de Lagrang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er les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'un polynôme de degré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ni par n+1 point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42800" y="3429000"/>
                <a:ext cx="4586400" cy="28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ase de Lagrange 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si 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i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sinon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'où  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≠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3" name=""/>
          <p:cNvSpPr/>
          <p:nvPr/>
        </p:nvSpPr>
        <p:spPr>
          <a:xfrm>
            <a:off x="5315040" y="3514680"/>
            <a:ext cx="15228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010200" y="3648240"/>
            <a:ext cx="15264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515280" y="2276640"/>
            <a:ext cx="15228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391520" y="2390760"/>
            <a:ext cx="15228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182080" y="2048040"/>
            <a:ext cx="15228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Base de Lagrang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43040" y="1142640"/>
            <a:ext cx="66484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typedef struc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{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x,y;} point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base(polynome p, point pt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b_pts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lynome q, r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j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k 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AZ(p)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AZ(q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[0] = 1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q[1] = 0 ;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3886200" y="2209680"/>
            <a:ext cx="4038480" cy="4267080"/>
            <a:chOff x="3886200" y="2209680"/>
            <a:chExt cx="4038480" cy="4267080"/>
          </a:xfrm>
        </p:grpSpPr>
        <p:sp>
          <p:nvSpPr>
            <p:cNvPr id="771" name=""/>
            <p:cNvSpPr/>
            <p:nvPr/>
          </p:nvSpPr>
          <p:spPr>
            <a:xfrm>
              <a:off x="4343400" y="2504880"/>
              <a:ext cx="358128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38592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618ffd"/>
                  </a:solidFill>
                  <a:latin typeface="Arial Narrow"/>
                </a:rPr>
                <a:t>for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(j = 0 ; j &lt; nb_pts ; j++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38592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fr-FR" sz="2400" spc="-1" strike="noStrike">
                  <a:solidFill>
                    <a:srgbClr val="618ffd"/>
                  </a:solidFill>
                  <a:latin typeface="Arial Narrow"/>
                </a:rPr>
                <a:t>if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(i != j){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38592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q[0] = -pt[j].x 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38592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copier(r, p) 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38592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produit(p,r,q) 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38592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k = k * (pt[i] - pt[j]) 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38592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38592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618ffd"/>
                  </a:solidFill>
                  <a:latin typeface="Arial Narrow"/>
                </a:rPr>
                <a:t>for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(j=0 ; j &lt;= nb_pts ; j++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38592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p[j] = p[j] / k 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93680"/>
                  <a:tab algn="l" pos="38592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86200" y="2209680"/>
              <a:ext cx="0" cy="4267080"/>
            </a:xfrm>
            <a:prstGeom prst="line">
              <a:avLst/>
            </a:prstGeom>
            <a:ln w="38160">
              <a:solidFill>
                <a:srgbClr val="d2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86200" y="2209680"/>
              <a:ext cx="3886200" cy="0"/>
            </a:xfrm>
            <a:prstGeom prst="line">
              <a:avLst/>
            </a:prstGeom>
            <a:ln w="38160">
              <a:solidFill>
                <a:srgbClr val="d2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onction Lagrang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981080" y="13716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agrange(polynome p, point pt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b_poi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, j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lynome L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AZ(p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 = 0 ; i &lt;= nb_points ; i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ase(L, pt, nb_points, i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j = 0 ; j &lt;= nb_points ; j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[j] = p[j] + pt[i].b * L[j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Arithmétiqu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lcul du "Plus Grand Commun Diviseur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gcd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 max({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0 [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] e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0 [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] 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gcd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pgcd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 pgcd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euve: posons k = pgcd(a+b,a)  et k' = pgcd(a,b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k divise aussi b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 a = x.k et a+b = y.k alors b = (y-x).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k' divise aussi a+b :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 a = x'.k' et b = y'.k' alors a + b = (x'+y').k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 définition on a k &gt;= k' et k' &gt;= k et donc k = k'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Algorithme d'Euclid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55054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gcd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pgcd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 pgcd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t pgcd(int a, int b){ /* a &gt; 0 et b &gt; 0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f (a == b) return a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f (a &gt; b) return pgcd(a-b,b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turn pgcd(b-a,a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'est une fonction </a:t>
            </a:r>
            <a:r>
              <a:rPr b="1" i="1" lang="fr-FR" sz="2400" spc="-1" strike="noStrike">
                <a:solidFill>
                  <a:srgbClr val="fc0128"/>
                </a:solidFill>
                <a:latin typeface="Times New Roman"/>
              </a:rPr>
              <a:t>récur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qui s'appelle elle-mêm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334840" y="3886200"/>
            <a:ext cx="2630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t pgcd(int a, int b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while (a != b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f (a &gt; b) a = a - b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lse b = b - a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turn a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Algorithme d'Euclid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42680" y="1143000"/>
            <a:ext cx="862956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gcd(20,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a en fait pgcd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 pgcd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%b, 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poson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k.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%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a pgcd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 pgcd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.b + a%b, 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pour 0 &lt;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3886200" y="1147680"/>
          <a:ext cx="4541760" cy="88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147680"/>
                    <a:ext cx="454176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5" name=""/>
          <p:cNvSpPr/>
          <p:nvPr/>
        </p:nvSpPr>
        <p:spPr>
          <a:xfrm>
            <a:off x="1447920" y="3352680"/>
            <a:ext cx="3143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t pgcd(int a, int b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while (a &amp;&amp; b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f (a &gt; b) a = a % b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lse b = b % a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turn a + b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962680" y="3048120"/>
            <a:ext cx="320040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t pgcd(int a, int b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t r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while (b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 = a % b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 = b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 = r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turn a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omplexité de l'algorithme d'Euclid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complexité d'un algorithme est une fonction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 : taille des données --&gt; nombre d'opé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inimale (meilleur des c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 complexités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moyen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ximale (pire des 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mbre de divisions dans le pire des cas (pour une taille donnée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ibonacci  F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k+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F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gcd(F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, F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demande i étapes de calcu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aille(F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~ i bit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gorithme liné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gcd(a,b) demande moins de log(a+b)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543800" y="4343400"/>
            <a:ext cx="1752480" cy="1739160"/>
          </a:xfrm>
          <a:prstGeom prst="rect">
            <a:avLst/>
          </a:prstGeom>
          <a:solidFill>
            <a:srgbClr val="d2fef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while (b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 = a % b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 = b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 = r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2633760" y="2328840"/>
            <a:ext cx="9903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633760" y="27097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633760" y="2709720"/>
            <a:ext cx="99036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Fonction main()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arr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x * x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/*carre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 mai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){ /*fonction principal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k = 6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 = carre(3) + carre(2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 = carre(k) +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 = carre(carre(2)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/* mai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2880" y="5546880"/>
            <a:ext cx="836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Un programme C ne peut-être exécuté sans fonction 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Tests de primalité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068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nombre premier possède exactement deux diviseurs 1 et lui-mêm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 dé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 n'est pas premi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existe un nombre infini de nombre premi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ucli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sons que k soit le plus grand nombre premier: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k! + 1 = 1 [n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our tout n premier &lt;=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lque so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l existe un nombre premier ent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t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chebyche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y a environ n/ln(n) nombres premiers inférieurs à 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x problèmes principaux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26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cider si un un nombre est premi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26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composer un nombre en ses facteurs premi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Primalité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crire une fonction booléenne premier(n) qui retourne vrai ssi n est un nombre prem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00600" y="24382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t premier(int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t d , rac = (long) sqrt((double)n)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f (n &lt; 3) return n == 2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f (n % 2 == 0) return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for(d = 3 ; d &lt;= rac ; d = d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f (n % d == 0) return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turn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racine(n)/2 di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34960" y="2438280"/>
            <a:ext cx="320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t premier(int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t d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f (n &lt; 2) return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for(d = 2 ; d &lt; n ; d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f (n % d == 0) return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turn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n di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Primalité (2)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 tester ni les multiples de 2 ni ceux de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38080" y="1676520"/>
            <a:ext cx="8382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t premier(int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t d , rac = (long) sqrt((double)n)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f (n &lt; 4) return n == 2 || n =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f (n % 2 == 0 || n % 3 == 0) return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for(d = 6 ; d &lt;= rac ; d = d +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f (n % (d - 1) == 0 ||  n % (d + 1) == 0 ) return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turn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racine(n)/3 di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iminer les multiples de 2,3 et 5 : partir de d =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ster n % (d +/- x) =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x = 1, 7, 11, 13, 17, 19, 23, 29 [on testera 8 nombres sur 3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Test de Fermat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tit théorème de Ferma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si a est premier alors m</a:t>
            </a:r>
            <a:r>
              <a:rPr b="0" i="1" lang="fr-FR" sz="2800" spc="-1" strike="noStrike" baseline="30000">
                <a:solidFill>
                  <a:srgbClr val="000000"/>
                </a:solidFill>
                <a:latin typeface="Times New Roman"/>
              </a:rPr>
              <a:t>a-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= 1 [a] pour tout entier m d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]1,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[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 234 567 est composite car 2 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1 234 566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354 219  [1 234 56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t puissance(int m, int exp, int mod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f (!exp) return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f (exp % 2) /* si exp est impai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turn (m *  puissance(m,exp - 1, mod)) % mod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turn puissance( (m * m) % mod , exp / 2,  mod)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lications : test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probabilist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e primali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peut dire si un entier est composite sans savoir le factori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Nombres de Carmichaë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mbre pseudo-premier absol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mbres composite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ls qu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fr-FR" sz="2800" spc="-1" strike="noStrike" baseline="30000">
                <a:solidFill>
                  <a:srgbClr val="000000"/>
                </a:solidFill>
                <a:latin typeface="Times New Roman"/>
              </a:rPr>
              <a:t>a-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= 1 [a] pour tout entier m &l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s : 561  - 1105 - 1729 - 2465 - 28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les nombres de Carmichaël comportent au moins 3 facte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t carmichaël (int a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t m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for(m = 2;  m &lt; a ; m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f (puissance(m, a-1, a)  != 1) return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turn ! premier(m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ryptographi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91540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utilise un codage pour transmettre des informations confidentielles. Le coût de l'espionnage doit être prohibitif par rapport à la valeur de l'information. =&gt; il faut pouvoir changer de code très faci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ème 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récepteur doit pouvoir déco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62120" y="47116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'émetteur et le récepteur doivent convenir du code utilis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tilisation de clefs secrètes ou d’algorithmes secr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066680" y="3276720"/>
            <a:ext cx="1676520" cy="990360"/>
          </a:xfrm>
          <a:prstGeom prst="rect">
            <a:avLst/>
          </a:prstGeom>
          <a:solidFill>
            <a:srgbClr val="d2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met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705720" y="3276720"/>
            <a:ext cx="1676160" cy="990360"/>
          </a:xfrm>
          <a:prstGeom prst="rect">
            <a:avLst/>
          </a:prstGeom>
          <a:solidFill>
            <a:srgbClr val="d2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cep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895480" y="373392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09880" y="3873600"/>
            <a:ext cx="1447920" cy="838080"/>
          </a:xfrm>
          <a:prstGeom prst="ellipse">
            <a:avLst/>
          </a:prstGeom>
          <a:solidFill>
            <a:srgbClr val="fbfdd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946680" y="3165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ryptographi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62956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dage RSA [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Rivest - Shamir - Adelman 1979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] à clef pub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 récepteur donne l’algorithme pour encoder les inform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"Réciproque" du théorème de Ferma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Soient n =p.q (avec p et q premiers) a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si d.e = 1 [(p-1).(q-1)] alors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</a:rPr>
              <a:t>de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 = a [n]  pour tou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dage : remplacer chaque paque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e 8 caractères, par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fr-FR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[n]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odage : remplacer chaque paque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e 8 caractères, par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fr-FR" sz="2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[n]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ouver deux grands nombres premiers p et q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oisir un nombre e premier avec (p-1).(q-1)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lculer d par Bézout. (d.e + v.(p-1).(q-1)  =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our calculer d il faut connaître p et 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Développement décimal d’un rationnel 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742680" y="4800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3680" indent="284040">
              <a:lnSpc>
                <a:spcPct val="130000"/>
              </a:lnSpc>
              <a:spcBef>
                <a:spcPts val="238"/>
              </a:spcBef>
              <a:buClr>
                <a:srgbClr val="000000"/>
              </a:buClr>
              <a:buFont typeface="Times New Roman"/>
              <a:buChar char="•"/>
              <a:tabLst>
                <a:tab algn="l" pos="2840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cher le développement décimal d’un rationn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284040">
              <a:lnSpc>
                <a:spcPct val="120000"/>
              </a:lnSpc>
              <a:spcBef>
                <a:spcPts val="238"/>
              </a:spcBef>
              <a:buClr>
                <a:srgbClr val="000000"/>
              </a:buClr>
              <a:buFont typeface="Times New Roman"/>
              <a:buChar char="•"/>
              <a:tabLst>
                <a:tab algn="l" pos="2840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er sa péri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457880" y="144792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57880" y="1981080"/>
            <a:ext cx="173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724120" y="1469880"/>
            <a:ext cx="1898640" cy="27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618ffd"/>
                </a:solidFill>
                <a:latin typeface="Courier Ne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00ff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99cc"/>
                </a:solidFill>
                <a:latin typeface="Courier New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037120" y="144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540320" y="2133720"/>
            <a:ext cx="42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,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8</a:t>
            </a:r>
            <a:r>
              <a:rPr b="1" lang="en-US" sz="2400" spc="-1" strike="noStrike">
                <a:solidFill>
                  <a:srgbClr val="618ffd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7</a:t>
            </a:r>
            <a:r>
              <a:rPr b="1" lang="en-US" sz="2400" spc="-1" strike="noStrike">
                <a:solidFill>
                  <a:srgbClr val="ff00ff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99cc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8</a:t>
            </a:r>
            <a:r>
              <a:rPr b="1" lang="en-US" sz="2400" spc="-1" strike="noStrike">
                <a:solidFill>
                  <a:srgbClr val="618ffd"/>
                </a:solidFill>
                <a:latin typeface="Courier New"/>
              </a:rPr>
              <a:t>5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7</a:t>
            </a:r>
            <a:r>
              <a:rPr b="1" lang="en-US" sz="2400" spc="-1" strike="noStrike">
                <a:solidFill>
                  <a:srgbClr val="ff00ff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99cc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Afficher le développement décima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60240" y="1066320"/>
            <a:ext cx="67694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void main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quotient, reste, num, deno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int i, decim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/* saisir le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um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érateur, le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eno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minateur et le nombre de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ecim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ale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/* fin de saisi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quotient = num / deno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reste = (num % deno) * 10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rintf("%ld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", quotient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i=0 ; i &lt; decim ; i ++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quotient = reste / deno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reste = (reste % deno) * 1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rintf("%ld", quotient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 /* main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677000" y="2017800"/>
            <a:ext cx="7430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,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60</a:t>
            </a:r>
            <a:r>
              <a:rPr b="1" lang="en-US" sz="2400" spc="-1" strike="noStrike">
                <a:solidFill>
                  <a:srgbClr val="618ffd"/>
                </a:solidFill>
                <a:latin typeface="Courier New"/>
              </a:rPr>
              <a:t>40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50</a:t>
            </a:r>
            <a:r>
              <a:rPr b="1" lang="en-US" sz="2400" spc="-1" strike="noStrike">
                <a:solidFill>
                  <a:srgbClr val="ff00ff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0099c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</a:rPr>
              <a:t>20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420040" y="2017800"/>
            <a:ext cx="7430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8 </a:t>
            </a:r>
            <a:r>
              <a:rPr b="1" lang="en-US" sz="2400" spc="-1" strike="noStrike">
                <a:solidFill>
                  <a:srgbClr val="618ffd"/>
                </a:solidFill>
                <a:latin typeface="Courier New"/>
              </a:rPr>
              <a:t>5 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7 </a:t>
            </a:r>
            <a:r>
              <a:rPr b="1" lang="en-US" sz="2400" spc="-1" strike="noStrike">
                <a:solidFill>
                  <a:srgbClr val="ff00ff"/>
                </a:solidFill>
                <a:latin typeface="Courier New"/>
              </a:rPr>
              <a:t>1 </a:t>
            </a:r>
            <a:r>
              <a:rPr b="1" lang="en-US" sz="2400" spc="-1" strike="noStrike">
                <a:solidFill>
                  <a:srgbClr val="0099cc"/>
                </a:solidFill>
                <a:latin typeface="Courier New"/>
              </a:rPr>
              <a:t>4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</a:rPr>
              <a:t>2 </a:t>
            </a:r>
            <a:r>
              <a:rPr b="1" lang="en-US" sz="2400" spc="-1" strike="noStrike">
                <a:solidFill>
                  <a:srgbClr val="339933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alcul de la périod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#defin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MAX 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te[MAX], quotient[MAX],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num, deno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/* saisir le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num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érateur, le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eno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minateur et le nombre de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decim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ale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/* fin de saisi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quotient[0] = num / deno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te[0] = (num % deno) * 1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=0 ; indice(reste[i],reste,i) == -1 ; i 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quotient[i+1] = reste[i] / deno ;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ste[i+1] = (reste[i] % deno) * 1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/* la période commence en indice(reste[i],reste,i) + 1 et se termine en i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7419960" y="2155680"/>
          <a:ext cx="1733400" cy="298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9960" y="2155680"/>
                    <a:ext cx="1733400" cy="29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1" name=""/>
          <p:cNvSpPr/>
          <p:nvPr/>
        </p:nvSpPr>
        <p:spPr>
          <a:xfrm rot="2546400">
            <a:off x="7557480" y="168552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re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rot="2546400">
            <a:off x="8004240" y="159984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quot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onction factoriell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gorithm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factoriell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k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f 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k = 2 ; k &lt;= n ; k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f = f * k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f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/* factoriell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971800" y="1523880"/>
                <a:ext cx="3581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k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⋯</m:t>
                    </m:r>
                    <m:r>
                      <m:t xml:space="preserve">×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hangement de bas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formation = sémantique + 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valeur + repré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anger de base = changer de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…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la représentation d'un entier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base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crire l'entier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n base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26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lculer la valeur de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x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26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lculer la représentation de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 base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aleur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…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 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k-1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..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+ 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+ 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évaluation d'un polynô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Représentation -&gt; Valeur (1)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trées : un entier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as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 un tableau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uppor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sa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ail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rtie: la valeur de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valeur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base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upport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aille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, s =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 = 0 ; i &lt; taille ; i++)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 = s + support[i]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*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uissance(base,i)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l'ordre d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aille.log(taille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multiplicat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Représentation -&gt; Valeur (2)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intègre le calcul de la puissanc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valeur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base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upport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aille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, p = 1, s =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 = 0 ; i &lt; taille ; i++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 = s + support[i] * p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 = p * bas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l'ordre de 2.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aill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ultiplicat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Représentation -&gt; valeur : méthode de Hörner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k-1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…+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+ 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...(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0 +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X +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k -1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k -2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 + ...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valeur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base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upport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aille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, s =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 = taille -1 ; i &gt;= 0 ; i-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 = s * base + support[i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l'ordre d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aill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ulti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Valeur -&gt; Représentation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er la représentation de 163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base 10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1635 / 10) * 10 + (1635 %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63 * 10 +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16 * 10 + 3)*10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1 * 10 + 6) * 10 + 3)*10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er la représentation de 13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base 8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135 / 8)*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135 %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*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2 * 8 + 0) *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0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Valeur -&gt; Représentation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trées : un valeur et une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rtie : un tableau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upport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enant la représentatio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e l'entier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ans la base conven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#defin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MAX 1000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/* on dispose de MAX chiffres au plu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epresentation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valeur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base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upport[]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 = 0 ; i &lt;= MAX ; i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upport[i] = valeur % bas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valeur = valeur / bas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Insérer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sérer la chaîn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ein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position 7 dans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"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ch bin berline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) faire de la plac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   ("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ch bin berlberline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) recopier la chaîn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"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ch bin ein berline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nsert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haîne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os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ource[]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gc,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gc = strlen(chaîne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 = strlen(source) ;  i &lt;= pos ; i--) /* faire de la plac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ource[lgc+ i] = source[i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 = 0 ; i &lt; lgc ; i++)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/* recopier la chaîn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ource[pos+i] = chaîne[i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upprimer une section de chaîn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emov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ebut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ongueur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ource[]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 = debut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source[i] = source[i+longueur]) i++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u en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source[i+ longueur] != 0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ource[i] = source[i+ longueur]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++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ource[i] =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Remplacer un motif par un autr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eplac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motif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ar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ource[]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os = 0, nb = 0 , lg = strlen(motif) ;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s = match(motif,source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pos &gt;= 0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move(pos,lg,source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sert(par,pos,source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s = match(motif,source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blème l'appel :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eplace("a","aa",chaîne)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oucl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infinime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s = match(motif,source+pos+strlen(par) 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émarrer la recherche juste après l'inse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Boucle « for »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270080"/>
            <a:ext cx="3791160" cy="26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factoriell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k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f 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fr-FR" sz="2400" spc="-1" strike="noStrike">
                <a:solidFill>
                  <a:srgbClr val="333399"/>
                </a:solidFill>
                <a:latin typeface="Arial Narrow"/>
              </a:rPr>
              <a:t>k = 2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; </a:t>
            </a:r>
            <a:r>
              <a:rPr b="0" lang="fr-FR" sz="2400" spc="-1" strike="noStrike">
                <a:solidFill>
                  <a:srgbClr val="9900ff"/>
                </a:solidFill>
                <a:latin typeface="Arial Narrow"/>
              </a:rPr>
              <a:t>k &lt;= 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; </a:t>
            </a: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k++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f = f * k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f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/* factoriell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133720"/>
            <a:ext cx="1447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</a:rPr>
              <a:t>de contrô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85800" y="2514600"/>
            <a:ext cx="89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114800" y="2895480"/>
            <a:ext cx="2115720" cy="457200"/>
            <a:chOff x="4114800" y="2895480"/>
            <a:chExt cx="2115720" cy="457200"/>
          </a:xfrm>
        </p:grpSpPr>
        <p:sp>
          <p:nvSpPr>
            <p:cNvPr id="97" name=""/>
            <p:cNvSpPr/>
            <p:nvPr/>
          </p:nvSpPr>
          <p:spPr>
            <a:xfrm>
              <a:off x="4415400" y="2958840"/>
              <a:ext cx="1815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tion contrôl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4800" y="2895480"/>
              <a:ext cx="53172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191120" y="3581280"/>
            <a:ext cx="4705200" cy="27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618ffd"/>
                </a:solidFill>
                <a:latin typeface="Times New Roman"/>
              </a:rPr>
              <a:t>for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fr-FR" sz="2000" spc="-1" strike="noStrike">
                <a:solidFill>
                  <a:srgbClr val="333399"/>
                </a:solidFill>
                <a:latin typeface="Times New Roman"/>
              </a:rPr>
              <a:t>initialisation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i="1" lang="fr-FR" sz="2000" spc="-1" strike="noStrike">
                <a:solidFill>
                  <a:srgbClr val="9900ff"/>
                </a:solidFill>
                <a:latin typeface="Times New Roman"/>
              </a:rPr>
              <a:t>test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i="1" lang="fr-FR" sz="2000" spc="-1" strike="noStrike">
                <a:solidFill>
                  <a:srgbClr val="fc0128"/>
                </a:solidFill>
                <a:latin typeface="Times New Roman"/>
              </a:rPr>
              <a:t>incrémentation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br>
              <a:rPr sz="2000"/>
            </a:b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action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  exécuter la partie </a:t>
            </a:r>
            <a:r>
              <a:rPr b="0" lang="fr-FR" sz="2000" spc="-1" strike="noStrike">
                <a:solidFill>
                  <a:srgbClr val="333399"/>
                </a:solidFill>
                <a:latin typeface="Times New Roman"/>
              </a:rPr>
              <a:t>initialisati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  Si le </a:t>
            </a:r>
            <a:r>
              <a:rPr b="0" lang="fr-FR" sz="2000" spc="-1" strike="noStrike">
                <a:solidFill>
                  <a:srgbClr val="9900ff"/>
                </a:solidFill>
                <a:latin typeface="Times New Roman"/>
              </a:rPr>
              <a:t>tes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n'est pas validé alors aller en 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3  exécuter l'action (ou le bloc d'ac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4  exécuter </a:t>
            </a:r>
            <a:r>
              <a:rPr b="0" lang="fr-FR" sz="2000" spc="-1" strike="noStrike">
                <a:solidFill>
                  <a:srgbClr val="fc0128"/>
                </a:solidFill>
                <a:latin typeface="Times New Roman"/>
              </a:rPr>
              <a:t>l'incrémentati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k = k + 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5  aller en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6 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286000"/>
            <a:ext cx="33606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819520"/>
            <a:ext cx="14479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073160" y="171360"/>
          <a:ext cx="842184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171360"/>
                    <a:ext cx="842184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Traduction en "langage machine" :</a:t>
            </a:r>
            <a:br>
              <a:rPr sz="2800"/>
            </a:b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4880" y="1870200"/>
            <a:ext cx="371484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factoriell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k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f 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k = 2 ; k &lt;= n ; k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f = f * k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f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/* factoriell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1754280"/>
            <a:ext cx="4953240" cy="35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éserver une case pour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75"/>
              </a:spcBef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éserver une case pour f et y mettr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75"/>
              </a:spcBef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tre 2 dans la case de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75"/>
              </a:spcBef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k &gt; n aller en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75"/>
              </a:spcBef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er f * k puis placer le résultat dans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75"/>
              </a:spcBef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jouter 1 à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75"/>
              </a:spcBef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er e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75"/>
              </a:spcBef>
              <a:tabLst>
                <a:tab algn="l" pos="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voyer la valeur de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Nombres à virgule flottant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c0128"/>
                </a:solidFill>
                <a:latin typeface="Times New Roman"/>
              </a:rPr>
              <a:t>Calcul de la fonction exponentielle</a:t>
            </a:r>
            <a:r>
              <a:rPr b="1" lang="fr-FR" sz="2400" spc="-1" strike="noStrike">
                <a:solidFill>
                  <a:srgbClr val="618ffd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ossibilité d'obtenir une valeur exac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lcul approché en fonction du rang 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lcul approché en fonction de la valeur du terme 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/n!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1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a) Définir le profil de la fonction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sultat et paramètre sont réels : utilisation du type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[flottant codé sur 64 bit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xponentiell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x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xponentiell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x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ang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xponentiell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x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psilon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3000" y="1011240"/>
          <a:ext cx="134460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3000" y="1011240"/>
                    <a:ext cx="134460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Les informatiqu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70000"/>
              </a:lnSpc>
              <a:spcBef>
                <a:spcPts val="2650"/>
              </a:spcBef>
              <a:buClr>
                <a:srgbClr val="618ffd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618ffd"/>
                </a:solidFill>
                <a:latin typeface="Times New Roman"/>
              </a:rPr>
              <a:t>Gestion</a:t>
            </a:r>
            <a:r>
              <a:rPr b="1" lang="fr-FR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comptabilité, stocks, production, document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65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618ffd"/>
                </a:solidFill>
                <a:latin typeface="Times New Roman"/>
              </a:rPr>
              <a:t>Transactionnel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banque, système de réserv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65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618ffd"/>
                </a:solidFill>
                <a:latin typeface="Times New Roman"/>
              </a:rPr>
              <a:t>Scientif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fr-FR" sz="2400" spc="-1" strike="noStrike">
                <a:solidFill>
                  <a:srgbClr val="618ffd"/>
                </a:solidFill>
                <a:latin typeface="Times New Roman"/>
              </a:rPr>
              <a:t>modé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618ffd"/>
                </a:solidFill>
                <a:latin typeface="Times New Roman"/>
              </a:rPr>
              <a:t>simul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lang="fr-FR" sz="2400" spc="-1" strike="noStrike">
                <a:solidFill>
                  <a:srgbClr val="618ffd"/>
                </a:solidFill>
                <a:latin typeface="Times New Roman"/>
              </a:rPr>
              <a:t>calcu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618ffd"/>
                </a:solidFill>
                <a:latin typeface="Times New Roman"/>
              </a:rPr>
              <a:t>intensi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synthèse d'image, météorologie)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fr-FR" sz="2400" spc="-1" strike="noStrike">
                <a:solidFill>
                  <a:srgbClr val="618ffd"/>
                </a:solidFill>
                <a:latin typeface="Times New Roman"/>
              </a:rPr>
              <a:t>analyse de donné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lang="fr-FR" sz="2400" spc="-1" strike="noStrike">
                <a:solidFill>
                  <a:srgbClr val="618ffd"/>
                </a:solidFill>
                <a:latin typeface="Times New Roman"/>
              </a:rPr>
              <a:t>aide à la décis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analyse d'image, analyse statist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65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618ffd"/>
                </a:solidFill>
                <a:latin typeface="Times New Roman"/>
              </a:rPr>
              <a:t>Temps</a:t>
            </a:r>
            <a:r>
              <a:rPr b="0" lang="fr-FR" sz="24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618ffd"/>
                </a:solidFill>
                <a:latin typeface="Times New Roman"/>
              </a:rPr>
              <a:t>Ré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calculateur embarqué, gestion de trafic urbain),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618ffd"/>
                </a:solidFill>
                <a:latin typeface="Times New Roman"/>
              </a:rPr>
              <a:t>Communic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télévision numérique, gestion de réseaux de télécommun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65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618ffd"/>
                </a:solidFill>
                <a:latin typeface="Times New Roman"/>
              </a:rPr>
              <a:t>Bureaut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traitement de texte, tableur, gestion de micro-entrepr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175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618ffd"/>
                </a:solidFill>
                <a:latin typeface="Times New Roman"/>
              </a:rPr>
              <a:t>Loisi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1" lang="fr-FR" sz="2400" spc="-1" strike="noStrike">
                <a:solidFill>
                  <a:srgbClr val="618ffd"/>
                </a:solidFill>
                <a:latin typeface="Times New Roman"/>
              </a:rPr>
              <a:t>Cultur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jeux, multimédia, Internet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175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onction exponentiell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8640" y="3276720"/>
            <a:ext cx="53658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xponentiell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x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ang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 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n = 1 ; </a:t>
            </a: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n &lt;= rang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; n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 = s + puissance(x,n) / factorielle(n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219320"/>
            <a:ext cx="4289400" cy="32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uissanc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x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 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 = 1 ; i &lt;= n 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 = p * x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3581280"/>
            <a:ext cx="1905120" cy="914400"/>
          </a:xfrm>
          <a:prstGeom prst="rect">
            <a:avLst/>
          </a:prstGeom>
          <a:solidFill>
            <a:srgbClr val="d2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onction exponentiell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égrer le calcul de 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celui de n!  dans la boucle f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xponentiell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x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ang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 = 1 , t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n = 1 ; n &lt;= rang ; n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339933"/>
                </a:solidFill>
                <a:latin typeface="Arial Narrow"/>
              </a:rPr>
              <a:t>  </a:t>
            </a:r>
            <a:r>
              <a:rPr b="1" lang="fr-FR" sz="2800" spc="-1" strike="noStrike">
                <a:solidFill>
                  <a:srgbClr val="339933"/>
                </a:solidFill>
                <a:latin typeface="Arial Narro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339933"/>
                </a:solidFill>
                <a:latin typeface="Arial Narrow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t = t * x / 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s = s + t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339933"/>
                </a:solidFill>
                <a:latin typeface="Arial Narrow"/>
              </a:rPr>
              <a:t>	</a:t>
            </a:r>
            <a:r>
              <a:rPr b="1" lang="fr-FR" sz="2800" spc="-1" strike="noStrike">
                <a:solidFill>
                  <a:srgbClr val="339933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/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(x/1).(x/2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x/1).(x/2).(x/3)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onction exponentiell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6026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lculer le terme jusqu'à ce qu’il soi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peti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modul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x &gt;= 0)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x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-x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xponentiell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x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psilo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 = 1 , t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n = 1 ; </a:t>
            </a:r>
            <a:r>
              <a:rPr b="0" lang="fr-FR" sz="2400" spc="-1" strike="noStrike">
                <a:solidFill>
                  <a:srgbClr val="9900ff"/>
                </a:solidFill>
                <a:latin typeface="Arial Narrow"/>
              </a:rPr>
              <a:t>module(t) &gt; epsilo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; n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 = t * x / 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 = s + t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3733920"/>
            <a:ext cx="296892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 Narrow"/>
              </a:rPr>
              <a:t>module(t/s) &gt; epsi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 Narrow"/>
              </a:rPr>
              <a:t>s == s +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Instruction conditionnell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3040" y="1143000"/>
            <a:ext cx="299088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CONDITIO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ction A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ction A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CONDITIO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ction A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618ffd"/>
                </a:solidFill>
                <a:latin typeface="Arial Narro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ction A2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ction A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1143000"/>
            <a:ext cx="421020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 Si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ONDITION est faux aller en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2 Action A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3 Action A2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 Si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ONDITION est faux aller en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2 Action A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3 aller en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4 Action 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5 Action A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80920" y="4232160"/>
            <a:ext cx="7120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ression condi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x == y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x &gt;= y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x &lt;=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x != y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x &lt; y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x &gt;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condition &amp;&amp; condition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 « et alor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condition || condition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</a:rPr>
              <a:t>« ou sinon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Les Entrées/Sorti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400" y="1486080"/>
            <a:ext cx="8420040" cy="53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canf() : lire une valeur sur l'entrée standard (le clavier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intf() : écrire une valeur sur la sortie standard (l'écra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30200" y="4457880"/>
            <a:ext cx="7135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49440" y="4514760"/>
            <a:ext cx="7137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70120" y="4572000"/>
            <a:ext cx="7135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90800" y="4629240"/>
            <a:ext cx="7135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4686480"/>
            <a:ext cx="7137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5840" y="4446720"/>
            <a:ext cx="2081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62360" y="35146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4724280"/>
            <a:ext cx="0" cy="800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48120" y="5410080"/>
            <a:ext cx="1649880" cy="1256400"/>
            <a:chOff x="3048120" y="5410080"/>
            <a:chExt cx="1649880" cy="1256400"/>
          </a:xfrm>
        </p:grpSpPr>
        <p:grpSp>
          <p:nvGrpSpPr>
            <p:cNvPr id="135" name=""/>
            <p:cNvGrpSpPr/>
            <p:nvPr/>
          </p:nvGrpSpPr>
          <p:grpSpPr>
            <a:xfrm>
              <a:off x="3229920" y="5410080"/>
              <a:ext cx="1321920" cy="1256400"/>
              <a:chOff x="3229920" y="5410080"/>
              <a:chExt cx="1321920" cy="125640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3781800" y="5411880"/>
                <a:ext cx="770040" cy="1254600"/>
                <a:chOff x="3781800" y="5411880"/>
                <a:chExt cx="770040" cy="12546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551840" y="5411880"/>
                  <a:ext cx="0" cy="1254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442400" y="5411880"/>
                  <a:ext cx="0" cy="1254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331880" y="5411880"/>
                  <a:ext cx="0" cy="1254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21720" y="5411880"/>
                  <a:ext cx="0" cy="1254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111920" y="5411880"/>
                  <a:ext cx="0" cy="1254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001760" y="5411880"/>
                  <a:ext cx="0" cy="1254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891600" y="5411880"/>
                  <a:ext cx="0" cy="1254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781800" y="5411880"/>
                  <a:ext cx="0" cy="1254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229920" y="5410080"/>
                <a:ext cx="769320" cy="1254960"/>
                <a:chOff x="3229920" y="5410080"/>
                <a:chExt cx="769320" cy="1254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999240" y="5410080"/>
                  <a:ext cx="0" cy="1254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889800" y="5410080"/>
                  <a:ext cx="0" cy="1254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779640" y="5410080"/>
                  <a:ext cx="0" cy="1254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669480" y="5410080"/>
                  <a:ext cx="0" cy="1254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559680" y="5410080"/>
                  <a:ext cx="0" cy="1254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449520" y="5410080"/>
                  <a:ext cx="0" cy="1254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339360" y="5410080"/>
                  <a:ext cx="0" cy="1254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229920" y="5410080"/>
                  <a:ext cx="0" cy="1254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4" name=""/>
            <p:cNvGrpSpPr/>
            <p:nvPr/>
          </p:nvGrpSpPr>
          <p:grpSpPr>
            <a:xfrm>
              <a:off x="3048120" y="5554080"/>
              <a:ext cx="1649880" cy="942120"/>
              <a:chOff x="3048120" y="5554080"/>
              <a:chExt cx="1649880" cy="94212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3048120" y="5554080"/>
                <a:ext cx="1649880" cy="549360"/>
                <a:chOff x="3048120" y="5554080"/>
                <a:chExt cx="1649880" cy="5493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048120" y="5554080"/>
                  <a:ext cx="164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048120" y="5632200"/>
                  <a:ext cx="164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048120" y="5711040"/>
                  <a:ext cx="164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048120" y="5789520"/>
                  <a:ext cx="164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048120" y="5868000"/>
                  <a:ext cx="164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048120" y="5946480"/>
                  <a:ext cx="164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048120" y="6025320"/>
                  <a:ext cx="164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048120" y="6103440"/>
                  <a:ext cx="164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3048120" y="5946480"/>
                <a:ext cx="1649880" cy="549720"/>
                <a:chOff x="3048120" y="5946480"/>
                <a:chExt cx="1649880" cy="5497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048120" y="5946480"/>
                  <a:ext cx="164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048120" y="6024600"/>
                  <a:ext cx="164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6103440"/>
                  <a:ext cx="164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048120" y="6182280"/>
                  <a:ext cx="164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048120" y="6260400"/>
                  <a:ext cx="164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048120" y="6339240"/>
                  <a:ext cx="164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048120" y="6418080"/>
                  <a:ext cx="164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048120" y="6496200"/>
                  <a:ext cx="1649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3" name=""/>
            <p:cNvSpPr/>
            <p:nvPr/>
          </p:nvSpPr>
          <p:spPr>
            <a:xfrm>
              <a:off x="3158280" y="5488560"/>
              <a:ext cx="1430640" cy="1099800"/>
            </a:xfrm>
            <a:custGeom>
              <a:avLst/>
              <a:gdLst>
                <a:gd name="textAreaLeft" fmla="*/ 71280 w 1430640"/>
                <a:gd name="textAreaRight" fmla="*/ 1359360 w 1430640"/>
                <a:gd name="textAreaTop" fmla="*/ 71280 h 1099800"/>
                <a:gd name="textAreaBottom" fmla="*/ 1028520 h 1099800"/>
              </a:gdLst>
              <a:ahLst/>
              <a:rect l="textAreaLeft" t="textAreaTop" r="textAreaRight" b="textAreaBottom"/>
              <a:pathLst>
                <a:path w="28096" h="21600">
                  <a:moveTo>
                    <a:pt x="0" y="0"/>
                  </a:moveTo>
                  <a:lnTo>
                    <a:pt x="28096" y="0"/>
                  </a:lnTo>
                  <a:lnTo>
                    <a:pt x="28096" y="21600"/>
                  </a:lnTo>
                  <a:lnTo>
                    <a:pt x="0" y="21600"/>
                  </a:lnTo>
                  <a:close/>
                </a:path>
                <a:path fill="lightenLess" w="28096" h="21600">
                  <a:moveTo>
                    <a:pt x="0" y="0"/>
                  </a:moveTo>
                  <a:lnTo>
                    <a:pt x="28096" y="0"/>
                  </a:lnTo>
                  <a:lnTo>
                    <a:pt x="26696" y="1400"/>
                  </a:lnTo>
                  <a:lnTo>
                    <a:pt x="1400" y="1400"/>
                  </a:lnTo>
                  <a:close/>
                </a:path>
                <a:path fill="darken" w="28096" h="21600">
                  <a:moveTo>
                    <a:pt x="28096" y="0"/>
                  </a:moveTo>
                  <a:lnTo>
                    <a:pt x="28096" y="21600"/>
                  </a:lnTo>
                  <a:lnTo>
                    <a:pt x="26696" y="20200"/>
                  </a:lnTo>
                  <a:lnTo>
                    <a:pt x="26696" y="1400"/>
                  </a:lnTo>
                  <a:close/>
                </a:path>
                <a:path fill="darkenLess" w="28096" h="21600">
                  <a:moveTo>
                    <a:pt x="280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696" y="20200"/>
                  </a:lnTo>
                  <a:close/>
                </a:path>
                <a:path fill="lighten" w="280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3378240" y="5567040"/>
              <a:ext cx="990360" cy="874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Inte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1320840" y="2685960"/>
          <a:ext cx="3436920" cy="70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2685960"/>
                    <a:ext cx="34369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800100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4648320"/>
            <a:ext cx="0" cy="799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7189920" y="1981080"/>
            <a:ext cx="1801800" cy="18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6400800" y="5181480"/>
          <a:ext cx="2133720" cy="1427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5181480"/>
                    <a:ext cx="2133720" cy="14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printf()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5867640" cy="522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ntf("une chaîne de caractères"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mai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, n = 124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ntf("un retour à la ligne </a:t>
            </a:r>
            <a:r>
              <a:rPr b="0" lang="fr-FR" sz="2400" spc="-1" strike="noStrike">
                <a:solidFill>
                  <a:srgbClr val="9900ff"/>
                </a:solidFill>
                <a:latin typeface="Arial Narrow"/>
              </a:rPr>
              <a:t>\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"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ntf("un entier </a:t>
            </a:r>
            <a:r>
              <a:rPr b="0" lang="fr-FR" sz="2400" spc="-1" strike="noStrike">
                <a:solidFill>
                  <a:srgbClr val="9900ff"/>
                </a:solidFill>
                <a:latin typeface="Arial Narrow"/>
              </a:rPr>
              <a:t>%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",  </a:t>
            </a:r>
            <a:r>
              <a:rPr b="0" lang="fr-FR" sz="2400" spc="-1" strike="noStrike">
                <a:solidFill>
                  <a:srgbClr val="9900ff"/>
                </a:solidFill>
                <a:latin typeface="Arial Narrow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/* afficher la table de multiplication par 7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i=1 ; i &lt;=10 ; i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ntf("</a:t>
            </a:r>
            <a:r>
              <a:rPr b="0" lang="fr-FR" sz="2400" spc="-1" strike="noStrike">
                <a:solidFill>
                  <a:srgbClr val="9900ff"/>
                </a:solidFill>
                <a:latin typeface="Arial Narrow"/>
              </a:rPr>
              <a:t>%d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x 7 = </a:t>
            </a: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%d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\n", </a:t>
            </a:r>
            <a:r>
              <a:rPr b="0" lang="fr-FR" sz="2400" spc="-1" strike="noStrike">
                <a:solidFill>
                  <a:srgbClr val="9900ff"/>
                </a:solidFill>
                <a:latin typeface="Arial Narrow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, </a:t>
            </a: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7*i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91320" y="1866960"/>
            <a:ext cx="3352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caractères spéciaux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retour à la ligne </a:t>
            </a:r>
            <a:r>
              <a:rPr b="0" lang="fr-FR" sz="2400" spc="-1" strike="noStrike">
                <a:solidFill>
                  <a:srgbClr val="9900ff"/>
                </a:solidFill>
                <a:latin typeface="Arial Narrow"/>
              </a:rPr>
              <a:t>\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entier </a:t>
            </a:r>
            <a:r>
              <a:rPr b="0" lang="fr-FR" sz="2400" spc="-1" strike="noStrike">
                <a:solidFill>
                  <a:srgbClr val="9900ff"/>
                </a:solidFill>
                <a:latin typeface="Arial Narrow"/>
              </a:rPr>
              <a:t>%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scanf()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3040" y="1142640"/>
            <a:ext cx="55814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Unicode MS"/>
              </a:rPr>
              <a:t>scanf(chaine du format, adresse de var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ractères spéciaux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38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entier </a:t>
            </a:r>
            <a:r>
              <a:rPr b="0" lang="fr-FR" sz="2400" spc="-1" strike="noStrike">
                <a:solidFill>
                  <a:srgbClr val="9900ff"/>
                </a:solidFill>
                <a:latin typeface="Arial Narrow"/>
              </a:rPr>
              <a:t>%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38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double </a:t>
            </a:r>
            <a:r>
              <a:rPr b="0" lang="fr-FR" sz="2400" spc="-1" strike="noStrike">
                <a:solidFill>
                  <a:srgbClr val="9900ff"/>
                </a:solidFill>
                <a:latin typeface="Arial Narrow"/>
              </a:rPr>
              <a:t>%l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mai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, j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ntf("entre deux entiers :")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canf(" </a:t>
            </a:r>
            <a:r>
              <a:rPr b="0" lang="fr-FR" sz="2400" spc="-1" strike="noStrike">
                <a:solidFill>
                  <a:srgbClr val="9900ff"/>
                </a:solidFill>
                <a:latin typeface="Arial Narrow"/>
              </a:rPr>
              <a:t>%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", </a:t>
            </a:r>
            <a:r>
              <a:rPr b="0" lang="fr-FR" sz="2400" spc="-1" strike="noStrike">
                <a:solidFill>
                  <a:srgbClr val="9900ff"/>
                </a:solidFill>
                <a:latin typeface="Arial Narrow"/>
              </a:rPr>
              <a:t>&amp;i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canf("</a:t>
            </a: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%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", </a:t>
            </a: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&amp;j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ntf("%d + %d = %d\n", i, j , i + j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2514600"/>
            <a:ext cx="487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 Narrow"/>
              </a:rPr>
              <a:t>&amp;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désigne l'adresse de la case de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Entrées/Sorties de flottant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5867640" cy="522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mai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i = 3.14159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rint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"Quel est le rayon ? </a:t>
            </a:r>
            <a:r>
              <a:rPr b="0" lang="fr-FR" sz="2400" spc="-1" strike="noStrike">
                <a:solidFill>
                  <a:srgbClr val="9900ff"/>
                </a:solidFill>
                <a:latin typeface="Arial Narrow"/>
              </a:rPr>
              <a:t>\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"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scan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 "%lf ", &amp;r 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rint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"Le périmètre est %lf </a:t>
            </a:r>
            <a:r>
              <a:rPr b="0" lang="fr-FR" sz="2400" spc="-1" strike="noStrike">
                <a:solidFill>
                  <a:srgbClr val="9900ff"/>
                </a:solidFill>
                <a:latin typeface="Arial Narrow"/>
              </a:rPr>
              <a:t>\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", 2 * pi * r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53200" y="2685960"/>
            <a:ext cx="380988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caractères spéciaux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retour à la ligne </a:t>
            </a:r>
            <a:r>
              <a:rPr b="0" lang="fr-FR" sz="2400" spc="-1" strike="noStrike">
                <a:solidFill>
                  <a:srgbClr val="9900ff"/>
                </a:solidFill>
                <a:latin typeface="Arial Narrow"/>
              </a:rPr>
              <a:t>\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entier </a:t>
            </a:r>
            <a:r>
              <a:rPr b="0" lang="fr-FR" sz="2400" spc="-1" strike="noStrike">
                <a:solidFill>
                  <a:srgbClr val="9900ff"/>
                </a:solidFill>
                <a:latin typeface="Arial Narrow"/>
              </a:rPr>
              <a:t>%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flottant double</a:t>
            </a:r>
            <a:r>
              <a:rPr b="0" lang="fr-FR" sz="2400" spc="-1" strike="noStrike">
                <a:solidFill>
                  <a:srgbClr val="9900ff"/>
                </a:solidFill>
                <a:latin typeface="Arial Narrow"/>
              </a:rPr>
              <a:t>%l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odage des informations : le BINAIR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former  = (étymologie) donner une forme, structure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formation = signifiant + signifi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26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présentation matérielle (forme, support, syntaxe,...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26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terprétation(s) (sémantique, essence, phénomène psychologiqu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quoi le binai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pularisé par Leibniz (vers 1700) en s'inspirant (très librement) de la philosophie chinoise du Yin / Ya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$ $ $ $ $ $ $ $ $ $ $ $ $ $ $ $ $ $ $ $ $ $ $ $ $ $ $ $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= 11100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= 28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codage unaire est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exponentielleme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plus coûteux en espace que le bin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Le binair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quoi pas une base supérieu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nombre de chiffres utilisés est linéaire [ln(B)/ln(2)]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333399"/>
                </a:solidFill>
                <a:latin typeface="Times New Roman"/>
              </a:rPr>
              <a:t>Un nombre en base 2 occupe 3,32 fois  plus d’espace qu’en base 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 est facile d’analyser et de représenter physiquement un phénomène bin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opérations sont très simpl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 * 0 = 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 * 1 = 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 * 0 = 0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 * 1 =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 + 0 = 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 + 1 = 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 + 0 = 1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 + 1 = 10</a:t>
            </a:r>
            <a:r>
              <a:rPr b="0" lang="fr-FR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23080" y="4270320"/>
            <a:ext cx="569880" cy="53028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73600" y="3564000"/>
            <a:ext cx="427320" cy="412560"/>
          </a:xfrm>
          <a:prstGeom prst="donut">
            <a:avLst>
              <a:gd name="adj" fmla="val 50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90960" y="3798720"/>
            <a:ext cx="427320" cy="354240"/>
          </a:xfrm>
          <a:prstGeom prst="noSmoking">
            <a:avLst>
              <a:gd name="adj" fmla="val 16666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78400" y="3917880"/>
            <a:ext cx="427320" cy="352440"/>
          </a:xfrm>
          <a:custGeom>
            <a:avLst/>
            <a:gdLst>
              <a:gd name="textAreaLeft" fmla="*/ 100440 w 427320"/>
              <a:gd name="textAreaRight" fmla="*/ 326520 w 427320"/>
              <a:gd name="textAreaTop" fmla="*/ 41400 h 352440"/>
              <a:gd name="textAreaBottom" fmla="*/ 221040 h 352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3505320"/>
            <a:ext cx="355320" cy="412560"/>
          </a:xfrm>
          <a:prstGeom prst="lightningBolt">
            <a:avLst/>
          </a:prstGeom>
          <a:solidFill>
            <a:srgbClr val="f0f767"/>
          </a:solidFill>
          <a:ln w="12600">
            <a:solidFill>
              <a:srgbClr val="bccf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75560" y="4094280"/>
            <a:ext cx="498240" cy="530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0f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18280" y="4094280"/>
            <a:ext cx="355320" cy="588960"/>
          </a:xfrm>
          <a:prstGeom prst="can">
            <a:avLst>
              <a:gd name="adj" fmla="val 36666"/>
            </a:avLst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Les limites de l'informatiqu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c0128"/>
                </a:solidFill>
                <a:latin typeface="Times New Roman"/>
              </a:rPr>
              <a:t>Limites théoriques </a:t>
            </a: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: tout n'est pas calcul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héorème de Gödel (1931) : Il existe une infinité de théorèmes n'ayant pas de démonstration dans tout système axiomatique suffisamment puissant pour exprimer + et *. </a:t>
            </a:r>
            <a:r>
              <a:rPr b="0" lang="fr-FR" sz="2000" spc="-1" strike="noStrike">
                <a:solidFill>
                  <a:srgbClr val="618ffd"/>
                </a:solidFill>
                <a:latin typeface="Times New Roman"/>
              </a:rPr>
              <a:t>G : "le théorème G n'est pas démontrable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87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c0128"/>
                </a:solidFill>
                <a:latin typeface="Times New Roman"/>
              </a:rPr>
              <a:t>Limites pratiques </a:t>
            </a: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: complexité du calc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Quelle est la fonction qui associe à la taille d'une donnée le  nombre d'étapes de calcul nécessaire à son traitemen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. calculer 10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aille de x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aille de 10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 (x &lt; 10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0 chiff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 (x &lt; 100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jouter 1 à la taille de la donnée =&gt; multiplier par 10 la taille du résult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c0128"/>
                </a:solidFill>
                <a:latin typeface="Times New Roman"/>
              </a:rPr>
              <a:t>Limites budgétaires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un bac+5 débutant gagne entre 170 et 230 kF et environ 270 kF après 10 a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odage des nombres entier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90802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entier codé sur 32 bit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[-2147483648, 2147483647] = [-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-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dag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binaire en complément à deu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exemple sur 16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c0128"/>
                </a:solidFill>
                <a:latin typeface="Times New Roman"/>
              </a:rPr>
              <a:t>32767 + 1 = -327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184720" y="2978280"/>
            <a:ext cx="3959280" cy="3116520"/>
            <a:chOff x="5184720" y="2978280"/>
            <a:chExt cx="3959280" cy="3116520"/>
          </a:xfrm>
        </p:grpSpPr>
        <p:sp>
          <p:nvSpPr>
            <p:cNvPr id="205" name=""/>
            <p:cNvSpPr/>
            <p:nvPr/>
          </p:nvSpPr>
          <p:spPr>
            <a:xfrm>
              <a:off x="5927760" y="5762520"/>
              <a:ext cx="822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3276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92840" y="5743440"/>
              <a:ext cx="820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276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5184720" y="2978280"/>
              <a:ext cx="3959280" cy="2934720"/>
              <a:chOff x="5184720" y="2978280"/>
              <a:chExt cx="3959280" cy="2934720"/>
            </a:xfrm>
          </p:grpSpPr>
          <p:sp>
            <p:nvSpPr>
              <p:cNvPr id="208" name=""/>
              <p:cNvSpPr/>
              <p:nvPr/>
            </p:nvSpPr>
            <p:spPr>
              <a:xfrm>
                <a:off x="5932440" y="3398760"/>
                <a:ext cx="2546280" cy="2425320"/>
              </a:xfrm>
              <a:prstGeom prst="ellipse">
                <a:avLst/>
              </a:prstGeom>
              <a:noFill/>
              <a:ln w="28440">
                <a:solidFill>
                  <a:srgbClr val="99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438520" y="3552480"/>
                <a:ext cx="812520" cy="166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54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5433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161560" y="3476520"/>
                <a:ext cx="812160" cy="16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7205400" y="3309480"/>
                <a:ext cx="0" cy="16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7205400" y="5748120"/>
                <a:ext cx="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035840" y="29782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64400" y="5499000"/>
                <a:ext cx="8204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3276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665840" y="5684760"/>
                <a:ext cx="69840" cy="13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6662160" y="5684760"/>
                <a:ext cx="95400" cy="13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675480" y="3398760"/>
                <a:ext cx="69840" cy="13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7665840" y="3385800"/>
                <a:ext cx="6984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640640" y="3165120"/>
                <a:ext cx="3268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422760" y="3146040"/>
                <a:ext cx="4921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84720" y="3622320"/>
                <a:ext cx="4921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816760" y="3546360"/>
                <a:ext cx="3272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143000" y="2666880"/>
                <a:ext cx="433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odage des nombres en virgule flottant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90802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irgule flottante = présence d’un exposant dans le cod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rme IEEE754 :  </a:t>
            </a:r>
            <a:r>
              <a:rPr b="0" lang="fr-FR" sz="2400" spc="-1" strike="noStrike">
                <a:solidFill>
                  <a:srgbClr val="618ffd"/>
                </a:solidFill>
                <a:latin typeface="Times New Roman"/>
              </a:rPr>
              <a:t>Sign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Exposa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9933"/>
                </a:solidFill>
                <a:latin typeface="Times New Roman"/>
              </a:rPr>
              <a:t>Mant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 = (-1)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si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ant codé par déf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nt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floa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nombre flottant codé sur 32 bits -- E=7 ~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- M=23  ~ 7 chiffr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flottant codé sur 64 bits -- E=10 ~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308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-- M=52  ~15 chiff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140360" y="2666880"/>
                <a:ext cx="41655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</m:sup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368440" y="3987720"/>
                <a:ext cx="32385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Codage de 1,3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gn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-1)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=&gt; S =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 = 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=&gt; 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-  1 =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011 …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nt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,3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1 + 0 * ½ + 0,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1 + 0 * ½ + 1* ¼ + 0,05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,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,6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,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,4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,8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,6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,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,4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,8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057400" y="1371600"/>
                <a:ext cx="41655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</m:sup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133720" y="2666880"/>
                <a:ext cx="32385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hapitre II : suites récurrentes 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c0128"/>
                </a:solidFill>
                <a:latin typeface="Times New Roman"/>
              </a:rPr>
              <a:t>Récurrence à un terme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2 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ire un programme qui calcule 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pour un 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onn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a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éfinition du profil de la fo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n sont deux entie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uite1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u0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51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b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trouver l'algorithm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lcule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à partir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lcule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à partir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lcule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à partir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er une boucle for pour appliquer n fois la règle u = 2u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Récurrence à un term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3040" y="1142640"/>
            <a:ext cx="42098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904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c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tra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1904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uite1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u0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1904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1904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u = u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1904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=1 ; i &lt;= n 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1904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u = 2 * u +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1904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u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904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904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07040" y="996840"/>
            <a:ext cx="4610160" cy="3264120"/>
          </a:xfrm>
          <a:custGeom>
            <a:avLst/>
            <a:gdLst>
              <a:gd name="textAreaLeft" fmla="*/ 1052280 w 4610160"/>
              <a:gd name="textAreaRight" fmla="*/ 3557880 w 4610160"/>
              <a:gd name="textAreaTop" fmla="*/ 745200 h 3264120"/>
              <a:gd name="textAreaBottom" fmla="*/ 2518920 h 3264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n'y a pas d'indic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variabl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'interv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pou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trô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bou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41640" y="4414680"/>
            <a:ext cx="4549680" cy="19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uite1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u0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 ; 1 &lt;= n ; 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u0 = 2 * u0 +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u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uite récurrente à un term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s général : on suppose disposer de la fonction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f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x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uite_a_un_terme 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u0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u = u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=1 ; i &lt;= n 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u = f(u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u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Pour bien faire, il faudra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passer la fonction en paramè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3000240" y="966960"/>
          <a:ext cx="389124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966960"/>
                    <a:ext cx="38912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5030640" y="2052720"/>
            <a:ext cx="446724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eri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u0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k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u = u0, s = u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i=1 ; i &lt;= k 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u = f(u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 = s + u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6667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alcul de la série associé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43040" y="2057040"/>
            <a:ext cx="3448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4827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eri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u0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k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4827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 = u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4827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4827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i=1 ; i &lt;= k ; i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4827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 = s + suite(u0,i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4827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4827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Récurrences à 2 terme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 Antiqua"/>
              </a:rPr>
              <a:t>n+1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= f(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 Antiqu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,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 Antiqu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) </a:t>
            </a: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a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profil de la fo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uite2(</a:t>
            </a:r>
            <a:r>
              <a:rPr b="1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 f(</a:t>
            </a:r>
            <a:r>
              <a:rPr b="1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),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u0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u1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b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algorithme : faire n-1 fois une action calculant u en fonction des deux termes précédants 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 = f (a,b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339933"/>
                </a:solidFill>
                <a:latin typeface="Times New Roman"/>
              </a:rPr>
              <a:t>n=2</a:t>
            </a:r>
            <a:r>
              <a:rPr b="0" lang="fr-FR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9933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Times New Roman"/>
              </a:rPr>
              <a:t>n=3</a:t>
            </a:r>
            <a:r>
              <a:rPr b="0" lang="fr-FR" sz="2400" spc="-1" strike="noStrike">
                <a:solidFill>
                  <a:srgbClr val="618ffd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618ffd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618ffd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n=4</a:t>
            </a: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33360" y="4719600"/>
            <a:ext cx="826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339933"/>
                </a:solidFill>
                <a:latin typeface="Arial Narrow"/>
              </a:rPr>
              <a:t>b = u0 ;  </a:t>
            </a:r>
            <a:r>
              <a:rPr b="0" lang="fr-FR" sz="2400" spc="-1" strike="noStrike">
                <a:solidFill>
                  <a:srgbClr val="339933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339933"/>
                </a:solidFill>
                <a:latin typeface="Arial Narrow"/>
              </a:rPr>
              <a:t>a = u1 ; </a:t>
            </a:r>
            <a:r>
              <a:rPr b="0" lang="fr-FR" sz="2400" spc="-1" strike="noStrike">
                <a:solidFill>
                  <a:srgbClr val="339933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339933"/>
                </a:solidFill>
                <a:latin typeface="Arial Narrow"/>
              </a:rPr>
              <a:t>u = f(a,b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b = a ;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a = u ;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u = f(a,b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b = a ;</a:t>
            </a: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a = u ;</a:t>
            </a: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u = f(a,b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3156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93920" y="3575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37240" y="4013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4019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Récurrences à 2 terme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 Antiqua"/>
              </a:rPr>
              <a:t>n+1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 = f(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 Antiqu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,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 Antiqu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60240" y="1142640"/>
            <a:ext cx="602640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c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tra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uite_2(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f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), /* f est une fonc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u0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u1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)  /* n &gt; 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 = u0, a = u1, u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i = 2 ; i &lt;= n ; i++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u = f(a,b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 = a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 = u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u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46440" y="3587760"/>
            <a:ext cx="4692960" cy="2502000"/>
          </a:xfrm>
          <a:custGeom>
            <a:avLst/>
            <a:gdLst>
              <a:gd name="textAreaLeft" fmla="*/ 1071360 w 4692960"/>
              <a:gd name="textAreaRight" fmla="*/ 3621600 w 4692960"/>
              <a:gd name="textAreaTop" fmla="*/ 570960 h 2502000"/>
              <a:gd name="textAreaBottom" fmla="*/ 1931040 h 250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(i = 2 ; i &lt;= n 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= f(a,b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rte de 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as particulier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29160" y="1940040"/>
            <a:ext cx="4375080" cy="46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1219320"/>
            <a:ext cx="3581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Exam98(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a, b, tmp, i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(i = a = b = 1 ; i &lt;= n 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(i % 2 =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tmp = b + 3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els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tmp = a * b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b = a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a = tmp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a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1447920"/>
            <a:ext cx="2457360" cy="1847520"/>
          </a:xfrm>
          <a:prstGeom prst="rect">
            <a:avLst/>
          </a:prstGeom>
          <a:noFill/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n-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* 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n-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n+1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3733920"/>
            <a:ext cx="1371600" cy="1008720"/>
          </a:xfrm>
          <a:prstGeom prst="rect">
            <a:avLst/>
          </a:prstGeom>
          <a:noFill/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i % 2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=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i modul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171000"/>
            <a:ext cx="842004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2680" y="742680"/>
            <a:ext cx="8420040" cy="53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c0128"/>
                </a:solidFill>
                <a:latin typeface="Times New Roman"/>
              </a:rPr>
              <a:t>But</a:t>
            </a:r>
            <a:br>
              <a:rPr sz="28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rendre à traduire des algorithmes mathématiques simples dans un langage de programmation classique : le langage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Algorithm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d'Al-Kärezmi, Math. ~1250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87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Suite d'opérations ou de raisonnements qui fournit la solution de certains problè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87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u moyen âge, procédé de calculs effectués à l'aide de chiffres arab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87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Ensemble de règles ou de procédés définis en vue d'obtenir un résultat déterminé au moyen d'un </a:t>
            </a:r>
            <a:r>
              <a:rPr b="0" i="1" lang="fr-FR" sz="2400" spc="-1" strike="noStrike">
                <a:solidFill>
                  <a:srgbClr val="618ffd"/>
                </a:solidFill>
                <a:latin typeface="Times New Roman"/>
              </a:rPr>
              <a:t>nombre fini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d'opé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as particulier : autre solution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101520"/>
                <a:tab algn="l" pos="2919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Exam98(int n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1250"/>
              </a:spcBef>
              <a:buNone/>
              <a:tabLst>
                <a:tab algn="l" pos="0"/>
                <a:tab algn="l" pos="101520"/>
                <a:tab algn="l" pos="2919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air = 1, impair = 4, i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1250"/>
              </a:spcBef>
              <a:buNone/>
              <a:tabLst>
                <a:tab algn="l" pos="0"/>
                <a:tab algn="l" pos="101520"/>
                <a:tab algn="l" pos="2919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1250"/>
              </a:spcBef>
              <a:buNone/>
              <a:tabLst>
                <a:tab algn="l" pos="0"/>
                <a:tab algn="l" pos="101520"/>
                <a:tab algn="l" pos="2919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i = 1 ; i &lt;= n / 2 ; i++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1250"/>
              </a:spcBef>
              <a:buNone/>
              <a:tabLst>
                <a:tab algn="l" pos="0"/>
                <a:tab algn="l" pos="101520"/>
                <a:tab algn="l" pos="2919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air = pair * impair 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1250"/>
              </a:spcBef>
              <a:buNone/>
              <a:tabLst>
                <a:tab algn="l" pos="0"/>
                <a:tab algn="l" pos="101520"/>
                <a:tab algn="l" pos="2919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impair = pair + 3 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1250"/>
              </a:spcBef>
              <a:buNone/>
              <a:tabLst>
                <a:tab algn="l" pos="0"/>
                <a:tab algn="l" pos="101520"/>
                <a:tab algn="l" pos="2919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1250"/>
              </a:spcBef>
              <a:buNone/>
              <a:tabLst>
                <a:tab algn="l" pos="0"/>
                <a:tab algn="l" pos="101520"/>
                <a:tab algn="l" pos="2919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(n % 2 == 1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1250"/>
              </a:spcBef>
              <a:buNone/>
              <a:tabLst>
                <a:tab algn="l" pos="0"/>
                <a:tab algn="l" pos="101520"/>
                <a:tab algn="l" pos="2919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impair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1250"/>
              </a:spcBef>
              <a:buNone/>
              <a:tabLst>
                <a:tab algn="l" pos="0"/>
                <a:tab algn="l" pos="101520"/>
                <a:tab algn="l" pos="2919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pair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1250"/>
              </a:spcBef>
              <a:buNone/>
              <a:tabLst>
                <a:tab algn="l" pos="0"/>
                <a:tab algn="l" pos="101520"/>
                <a:tab algn="l" pos="2919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29160" y="1940040"/>
            <a:ext cx="4375080" cy="46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1447920"/>
            <a:ext cx="2457360" cy="1847520"/>
          </a:xfrm>
          <a:prstGeom prst="rect">
            <a:avLst/>
          </a:prstGeom>
          <a:noFill/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n-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* 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n-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n+1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43000" y="3762360"/>
            <a:ext cx="1676520" cy="13262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n /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division entiè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3/2 =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Récurrences à </a:t>
            </a:r>
            <a:r>
              <a:rPr b="0" i="1" lang="fr-FR" sz="3200" spc="-1" strike="noStrike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 term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uite_k_termes(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u0,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u1,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u2,....,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u20,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u ;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/*    n&gt;20   *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(i = 21 ; i &lt;= n ; i++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u = f(u20, u19, u18,..., u2, u1, u0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u0 = u1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u1 = u2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u19 = u20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u20 = u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u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62480" y="5176800"/>
            <a:ext cx="5952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Pour bien faire, il faudrait pouvoir appeler les variables par un nom paramét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Résolution d’équations numériqu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 joueur A doit deviner un nombre compris entre 0 et 1023 détenu par un joueur B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ette fin, le joueur A fait des propositions et reçoit, pour chacune d'elle, une réponse du joueur B qui peut être soit  "trouvé", soit "trop grand" ou encore "trop petit"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er le joueur B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Quelle est votre proposi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op 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Quelle est votre proposi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1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op pet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Quelle est votre proposit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1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agné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imulation du joueur B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#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efin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MAX 10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main(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ol, prop 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andomize() 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ol = random(MAX+1) ; /*sol in [0,1023] */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ntf(”Quelle est votre proposition ?\n” 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canf("%d",&amp;prop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prop&gt;sol) printf("trop grand\n"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els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sol &gt; prop) printf("trop petit\n"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sol != prop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ntf("Gagné !"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Instructions itérativ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7120" y="1253880"/>
            <a:ext cx="2990520" cy="118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CONDITIO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ction A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ction A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29240" y="1254240"/>
            <a:ext cx="420984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 Si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ONDITION est faux aller en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2 Action A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3 aller e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4 Action A2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28800" y="5181480"/>
            <a:ext cx="5332320" cy="1351800"/>
          </a:xfrm>
          <a:prstGeom prst="rect">
            <a:avLst/>
          </a:prstGeom>
          <a:noFill/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618ffd"/>
                </a:solidFill>
                <a:latin typeface="Arial Narrow"/>
              </a:rPr>
              <a:t>do</a:t>
            </a:r>
            <a:r>
              <a:rPr b="1" lang="fr-FR" sz="24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1" lang="fr-FR" sz="24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1" lang="fr-FR" sz="2400" spc="-1" strike="noStrike">
                <a:solidFill>
                  <a:srgbClr val="618ffd"/>
                </a:solidFill>
                <a:latin typeface="Arial Narrow"/>
              </a:rPr>
              <a:t> </a:t>
            </a:r>
            <a:r>
              <a:rPr b="1" lang="fr-FR" sz="24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1" lang="fr-FR" sz="24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1" lang="fr-FR" sz="2400" spc="-1" strike="noStrike">
                <a:solidFill>
                  <a:srgbClr val="618ffd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ction A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ction A1 ;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FR" sz="24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con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cond) ;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ction A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ction A2;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ction A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495288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0200" y="3200400"/>
            <a:ext cx="785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3309840"/>
            <a:ext cx="2971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618ffd"/>
                </a:solidFill>
                <a:latin typeface="Arial Narrow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ction A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CONDITIO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ction A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3728880"/>
            <a:ext cx="419076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1 Action A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2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Si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ONDITION est vrai aller en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3 Action 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43920" y="2583000"/>
            <a:ext cx="4868640" cy="459720"/>
          </a:xfrm>
          <a:prstGeom prst="rect">
            <a:avLst/>
          </a:prstGeom>
          <a:noFill/>
          <a:ln w="190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cond)  est équivalent à  </a:t>
            </a:r>
            <a:r>
              <a:rPr b="1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;cond;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Mémoriser l'intervalle et le nombre de coup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57168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#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defin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MAX 1023</a:t>
            </a:r>
            <a:br>
              <a:rPr sz="2000"/>
            </a:b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main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){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sol, prop, sup = MAX, inf = 0, coup = 0 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randomize() 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ol = random(MAX+1) ; /*sol in [0,1023]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285840"/>
                <a:tab algn="l" pos="57168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do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rintf("entre un nombre entre %d et %d",inf,sup) 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canf("%d",&amp;prop) 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coup++ 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(prop&gt;sol) {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rintf("trop grand\n") ;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up = prop - 1 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els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(sol &gt; prop){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rintf("trop petit\n") ;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inf = prop + 1 ;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sol != prop) 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rintf("Gagné en %d coup(s)",coup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285840"/>
                <a:tab algn="l" pos="57168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imulation du joueur A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rire un programme qui "trouve" le nombre détenu par le joueur B. Quelle stratégie (algorithme) doit adopter le joueur A pour gagner le plus rapidement possib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r un nombre au hasard et recommen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r 0, puis 1, puis 2, ...et 1023  (ou un autre ord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ût : 512 coups en moyen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r un nombre au hasard dans l'intervalle de recher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Méthode Dichotomiqu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654280" y="1682640"/>
          <a:ext cx="458640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4280" y="1682640"/>
                    <a:ext cx="458640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1893960" y="5253120"/>
            <a:ext cx="481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rbre binaire de recherche équilibr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79680" y="909720"/>
            <a:ext cx="380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viser pour résou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Résolution dichotomiqu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void main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max = 1023, min = 0 , prop, rep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rintf("choisissez un nombre entre %d et%d\n", min, max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rintf("-1 trop petit, 0 trouvé, +1 trop grand\n"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do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rop = (max+min) / 2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rintf("ma proposition: %d\n", prop 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canf("%d",&amp;rep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(rep &lt; 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min = prop + 1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els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(rep &gt;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max = prop - 1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rep != 0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Analyse de la méthode dichotomiqu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243160" y="1612800"/>
          <a:ext cx="5410080" cy="373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3160" y="1612800"/>
                    <a:ext cx="5410080" cy="37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662760" y="5180040"/>
            <a:ext cx="664164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ons  sol = 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r (0111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vient à demander la valeur d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Exemples d'algorithm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ddition de deux entiers naturel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00080" y="1909800"/>
            <a:ext cx="456264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981080"/>
            <a:ext cx="4496040" cy="35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 retenue = 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de rè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+0=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+0=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+0=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+1=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+1=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+2=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+2=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+9=8 et retenue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 retenue = 1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+0=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+0=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+0=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+1=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+1=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+2=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+2=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+9=9 et retenue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3200400"/>
            <a:ext cx="270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1828800"/>
            <a:ext cx="350496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2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+    6 6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 1 9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Résolution d'équations numériqu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it f une fonction réelle définie et continue sur [a,b] et possédant (au moins) une racine dans [a,b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ouver une solution approchée de f(x) = 0 en construisant une suite qui converge vers l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Méthode dichotom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Méthode de Lag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Méthode de New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5168880" cy="26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Méthode dichotomiqu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dichotomie(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f(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), /* f est une fonction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a, /* f(a) &lt; 0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b, /* f(b) &gt; 0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epsil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x = a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(fabs(a-b) &gt; epsilon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x = (a + b) / 2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 f(x) &gt;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b = x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els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a = x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x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753080" y="2111400"/>
            <a:ext cx="4971960" cy="3700440"/>
            <a:chOff x="4753080" y="2111400"/>
            <a:chExt cx="4971960" cy="370044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4753080" y="2111400"/>
              <a:ext cx="497196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 txBox="1"/>
            <p:nvPr/>
          </p:nvSpPr>
          <p:spPr>
            <a:xfrm>
              <a:off x="4753080" y="2111400"/>
              <a:ext cx="4971960" cy="370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5667480" y="4702320"/>
            <a:ext cx="3124080" cy="0"/>
          </a:xfrm>
          <a:prstGeom prst="line">
            <a:avLst/>
          </a:prstGeom>
          <a:ln w="76320">
            <a:solidFill>
              <a:srgbClr val="f0f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67480" y="4473720"/>
            <a:ext cx="1600200" cy="0"/>
          </a:xfrm>
          <a:prstGeom prst="line">
            <a:avLst/>
          </a:prstGeom>
          <a:ln w="7632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05560" y="4245120"/>
            <a:ext cx="76212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05560" y="4092480"/>
            <a:ext cx="380880" cy="0"/>
          </a:xfrm>
          <a:prstGeom prst="line">
            <a:avLst/>
          </a:prstGeom>
          <a:ln w="7632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10400" y="3940200"/>
            <a:ext cx="171360" cy="0"/>
          </a:xfrm>
          <a:prstGeom prst="line">
            <a:avLst/>
          </a:prstGeom>
          <a:ln w="7632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37280" y="1143000"/>
            <a:ext cx="2109960" cy="120276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La fon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double fabs(double d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est définie dans math.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Exemple de résolution  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ma_fonction(double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2 * x + cos(x) -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 mai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ntf("la fonction 2x + cos(x) - 1 s'annule en %lf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ichotomie(ma_fonction, -5, 5, 1E-5) 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Méthode de Lagrang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990720" y="1555920"/>
            <a:ext cx="6387840" cy="3330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 flipV="1">
            <a:off x="2400480" y="3346560"/>
            <a:ext cx="1555560" cy="77472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44920" y="3043080"/>
            <a:ext cx="669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00400" y="2057400"/>
            <a:ext cx="669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0" y="1143000"/>
            <a:ext cx="669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352680" y="2437920"/>
            <a:ext cx="0" cy="1219320"/>
          </a:xfrm>
          <a:prstGeom prst="line">
            <a:avLst/>
          </a:prstGeom>
          <a:ln w="1260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97240" y="3652920"/>
            <a:ext cx="91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71760" y="4033800"/>
            <a:ext cx="91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6777000" y="2585880"/>
          <a:ext cx="2616120" cy="7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77000" y="2585880"/>
                    <a:ext cx="261612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 flipV="1">
            <a:off x="2438280" y="1523520"/>
            <a:ext cx="0" cy="2590920"/>
          </a:xfrm>
          <a:prstGeom prst="line">
            <a:avLst/>
          </a:prstGeom>
          <a:ln w="1260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4952880" y="4724280"/>
          <a:ext cx="4435560" cy="1685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4724280"/>
                    <a:ext cx="443556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457200" y="5029200"/>
          <a:ext cx="3760920" cy="750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5029200"/>
                    <a:ext cx="37609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Méthode de Lagrang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agrange(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f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), /* f est une fonc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b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fabs(a-b) &gt; epsilon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 = (a*f(b) - b*f(a)) / (f(b) - f(a)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 = a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 = c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777000" y="2585880"/>
          <a:ext cx="2616120" cy="7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7000" y="2585880"/>
                    <a:ext cx="261612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Exemple de résolution  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ma_fonction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2 * x + cos(x) -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mai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ntf("la fonction 2x + cos(x) - 1 s'annule en %lf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agrange( ma_fonction, -5, 5, 1E-5) 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Méthode de Lagrange + test de convergenc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'arrêter après au plus un certain nombre d'ité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618ffd"/>
                </a:solidFill>
                <a:latin typeface="Arial Narrow"/>
              </a:rPr>
              <a:t>#define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 MAXITER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agrange(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f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)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a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b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 = a ; </a:t>
            </a:r>
            <a:r>
              <a:rPr b="0" i="1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 cpt =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fabs(a-b) &gt; epsilon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fr-FR" sz="2400" spc="-1" strike="noStrike">
                <a:solidFill>
                  <a:srgbClr val="618ffd"/>
                </a:solidFill>
                <a:latin typeface="Arial Narrow"/>
              </a:rPr>
              <a:t>&amp;&amp; 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cpt &lt; MAXITE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 = (a*f(b) - b*f(a)) / (f(b) - f(a)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 = a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 = c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cpt ++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Méthode de Newton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42680" y="1143000"/>
            <a:ext cx="842004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er la tangente en un point à la place d'un couple de points :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g(x) = f'(a).x - a.f'(a) + f(a)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'où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x = a - f(a)/f'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ite réelle définie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- f(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) / f'(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308240" y="2971800"/>
            <a:ext cx="6387840" cy="33307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 flipV="1">
            <a:off x="2057400" y="4483080"/>
            <a:ext cx="2514600" cy="12952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Méthode de Newton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- f(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) / f'(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ewton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f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)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fprim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a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psi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b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=b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 = a -  f(a) / fprime(a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fabs(b-a) &gt; epsilon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b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hapitre IV : données structuré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2760" indent="-482760">
              <a:lnSpc>
                <a:spcPct val="90000"/>
              </a:lnSpc>
              <a:spcBef>
                <a:spcPts val="2001"/>
              </a:spcBef>
              <a:buClr>
                <a:srgbClr val="fc012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 adresse 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méro, type de voie, nom de voie, code postal, ville, p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2001"/>
              </a:spcBef>
              <a:buClr>
                <a:srgbClr val="fc012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 voiture 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méro d'immatriculation, numéro de moteur couleur, année de production, modèle, mar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2001"/>
              </a:spcBef>
              <a:buClr>
                <a:srgbClr val="fc012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 étoile 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m, coordonnées polaires, distance, magnitude, couleur,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2001"/>
              </a:spcBef>
              <a:buClr>
                <a:srgbClr val="fc012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micro-ordinateur 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µ-processeur, fréquence, carte-mère, mémoire, disque dur, carte graphique, carte 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2001"/>
              </a:spcBef>
              <a:buClr>
                <a:srgbClr val="fc012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nombre rationnel 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umérateur, dénominate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2001"/>
              </a:spcBef>
              <a:buClr>
                <a:srgbClr val="fc012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oint pondéré 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ordonnées, po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2001"/>
              </a:spcBef>
              <a:buClr>
                <a:srgbClr val="fc0128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nombre complexe 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tie réelle, partie imaginai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Exemples d'algorithm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1430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visibilité d'un nombre p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 : le nombre doit se terminer par 0, 2 , 4, 6 ou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5 : le nombre doit se terminer par 0 ou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0 : le nombre doit se terminer par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3 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, 3, 6, 9 sont divisibles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26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somme des chiffres du nombre doit être divisible pa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eu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tructure "rationnel"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42680" y="1181160"/>
            <a:ext cx="8420040" cy="53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c0128"/>
                </a:solidFill>
                <a:latin typeface="Times New Roman"/>
              </a:rPr>
              <a:t>Définition de la structure de donné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618ffd"/>
                </a:solidFill>
                <a:latin typeface="Arial Narrow"/>
              </a:rPr>
              <a:t>struc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at{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num, deno ;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/* numérateur / dénominateur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c0128"/>
                </a:solidFill>
                <a:latin typeface="Times New Roman"/>
              </a:rPr>
              <a:t>Définition d'une variable de type </a:t>
            </a:r>
            <a:r>
              <a:rPr b="1" lang="fr-FR" sz="2400" spc="-1" strike="noStrike">
                <a:solidFill>
                  <a:srgbClr val="618ffd"/>
                </a:solidFill>
                <a:latin typeface="Times New Roman"/>
              </a:rPr>
              <a:t>struct</a:t>
            </a:r>
            <a:r>
              <a:rPr b="1" lang="fr-FR" sz="2400" spc="-1" strike="noStrike">
                <a:solidFill>
                  <a:srgbClr val="fc0128"/>
                </a:solidFill>
                <a:latin typeface="Times New Roman"/>
              </a:rPr>
              <a:t> rat :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400" spc="-1" strike="noStrike">
                <a:solidFill>
                  <a:srgbClr val="618ffd"/>
                </a:solidFill>
                <a:latin typeface="Arial Narrow"/>
              </a:rPr>
              <a:t>struc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at r , x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c0128"/>
                </a:solidFill>
                <a:latin typeface="Times New Roman"/>
              </a:rPr>
              <a:t>Affec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 = {1,2} ; x = r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num = 1 ; r</a:t>
            </a:r>
            <a:r>
              <a:rPr b="1" lang="fr-FR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eno = 2 ;  /* r.num est une variable de type int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x = x + r ; /* erreur : l'opération + n'est pas défini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673200" y="5854680"/>
            <a:ext cx="1231200" cy="469800"/>
            <a:chOff x="673200" y="5854680"/>
            <a:chExt cx="1231200" cy="469800"/>
          </a:xfrm>
        </p:grpSpPr>
        <p:sp>
          <p:nvSpPr>
            <p:cNvPr id="349" name=""/>
            <p:cNvSpPr/>
            <p:nvPr/>
          </p:nvSpPr>
          <p:spPr>
            <a:xfrm flipV="1">
              <a:off x="761400" y="5867280"/>
              <a:ext cx="1143000" cy="457200"/>
            </a:xfrm>
            <a:prstGeom prst="line">
              <a:avLst/>
            </a:prstGeom>
            <a:ln w="28440">
              <a:solidFill>
                <a:srgbClr val="fdb9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3200" y="5854680"/>
              <a:ext cx="1143000" cy="457200"/>
            </a:xfrm>
            <a:prstGeom prst="line">
              <a:avLst/>
            </a:prstGeom>
            <a:ln w="28440">
              <a:solidFill>
                <a:srgbClr val="fdb9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Opérations sur les rat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« Program = Algorithm + Data Structure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struc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at somm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struc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at a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struc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at b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struc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at c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.num = a.num * b.deno + b.num * a.deno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.deno = a.deno * b.deno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struc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at a, b, c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 = somme(a,b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MQ : utilisation du pgcd pour éviter les débordements inu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tructure "point pondéré"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42680" y="1143000"/>
            <a:ext cx="8420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struc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oint_pondere {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x, y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unsigned in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ids ; /* poids &gt;= 0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c0128"/>
                </a:solidFill>
                <a:latin typeface="Times New Roman"/>
              </a:rPr>
              <a:t>Déclaration de l’équivalence entre les types </a:t>
            </a:r>
            <a:r>
              <a:rPr b="0" lang="fr-FR" sz="2000" spc="-1" strike="noStrike">
                <a:solidFill>
                  <a:srgbClr val="fc0128"/>
                </a:solidFill>
                <a:latin typeface="Arial Narrow"/>
              </a:rPr>
              <a:t>point_pondere </a:t>
            </a:r>
            <a:r>
              <a:rPr b="0" lang="fr-FR" sz="2000" spc="-1" strike="noStrike">
                <a:solidFill>
                  <a:srgbClr val="fc0128"/>
                </a:solidFill>
                <a:latin typeface="Times New Roman"/>
              </a:rPr>
              <a:t>et</a:t>
            </a:r>
            <a:r>
              <a:rPr b="0" lang="fr-FR" sz="2000" spc="-1" strike="noStrike">
                <a:solidFill>
                  <a:srgbClr val="fc0128"/>
                </a:solidFill>
                <a:latin typeface="Arial Narrow"/>
              </a:rPr>
              <a:t> struct point_ponder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typede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truct point_pondere point_ponder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aire un programme qui simule le comportement suiva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 Narrow"/>
              </a:rPr>
              <a:t>Entre le premier point pondéré : 0 0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 Narrow"/>
              </a:rPr>
              <a:t>Entre le second point pondéré : 10 0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 Narrow"/>
              </a:rPr>
              <a:t>Le barycentre des 2 points est (8,0,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alcul du barycentr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657440" y="1142640"/>
            <a:ext cx="74102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arycentr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.poids = a.poids + b.poid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.x = (a.poids * a.x + b.poids * b.x) / c.poids ;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.y = (a.poids * a.y + b.poids * b.y) / c.poid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/*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(point_pondere) {(a.poids * a.x + b.poids * b.x) / (a.poids + b.poids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a.poids * a.y + b.poids * b.y) / (a.poids + b.poids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a.poids + b.poids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 ; }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Entrée/Sortie de PointPondéré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530680" y="1523880"/>
            <a:ext cx="363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ire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canf("%lf", &amp;a.x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canf("%lf", &amp;a.y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canf("%d", &amp;a.poids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a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360" y="1523880"/>
            <a:ext cx="4457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04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crir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04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ntf("(%lf , %lf , %d)",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04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.x, a.y, a.poids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044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3120" y="4871880"/>
            <a:ext cx="91724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fonction écrire n'a pas de résultat (void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fonction lire n'a pas de paramèt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52880" y="1371600"/>
            <a:ext cx="0" cy="3200400"/>
          </a:xfrm>
          <a:prstGeom prst="line">
            <a:avLst/>
          </a:prstGeom>
          <a:ln cap="rnd" w="12600">
            <a:solidFill>
              <a:srgbClr val="fdb9d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Programme principa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63840" y="2509920"/>
            <a:ext cx="686088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main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point_ponder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, b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ntf("Entre le premier point pondéré :") ; a = lire(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ntf("Entre le second point pondéré :") ;  b = lire(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ntf(" Le barycentre des 2 points est "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crire(barycentre(a,b)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81480" y="1511280"/>
            <a:ext cx="4114800" cy="1238400"/>
          </a:xfrm>
          <a:prstGeom prst="rect">
            <a:avLst/>
          </a:prstGeom>
          <a:solidFill>
            <a:srgbClr val="ebfffd"/>
          </a:solidFill>
          <a:ln w="3240">
            <a:solidFill>
              <a:srgbClr val="fdb9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re le premier point pondéré : 0 0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re le second point pondéré : 10 0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barycentre des 2 points est (8,0,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Les complex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9880" y="1295280"/>
            <a:ext cx="75121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ppels mathématiques : couple de R²  noté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 + 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 algn="ctr"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partie réel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partie imaginair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i² =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laration de la structure de donnée 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finition des opérations usuelles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mme :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(a+ib) + (a'+ib') = (a+a') + i (b+b'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duit :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(a+ib)(a'+ib') = (a.a'-b.b') + i (a.b'+a'.b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uissance,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dule :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trées / sorties de compl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438280" y="4876920"/>
                <a:ext cx="10796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alignl</m:t>
                                </m:r>
                                <m:sSup>
                                  <m:e>
                                    <m:sSup>
                                      <m:e>
                                        <m:eqArr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eqArr>
                                      </m:e>
                                      <m:sup/>
                                    </m:sSup>
                                  </m:e>
                                  <m:sup/>
                                </m:sSup>
                              </m:e>
                              <m:sup/>
                            </m:sSup>
                          </m:e>
                        </m:rad>
                      </m:e>
                      <m:sup/>
                    </m:sSup>
                    <m:sSup>
                      <m:e/>
                      <m:sup/>
                    </m:sSup>
                    <m:sSup>
                      <m:e/>
                      <m:sup/>
                    </m:sSup>
                    <m:sSup>
                      <m:e/>
                      <m:sup/>
                    </m:sSup>
                    <m:r>
                      <m:t xml:space="preserve">+</m:t>
                    </m:r>
                    <m:r>
                      <m:t xml:space="preserve">balignl</m:t>
                    </m:r>
                    <m:sSup>
                      <m:e>
                        <m:sSup>
                          <m:e>
                            <m:eqArr>
                              <m:e>
                                <m:r>
                                  <m:t xml:space="preserve">2</m:t>
                                </m:r>
                              </m:e>
                            </m:eqArr>
                          </m:e>
                          <m:sup/>
                        </m:sSup>
                      </m:e>
                      <m:sup/>
                    </m:sSup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Structure complex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393640" y="1142640"/>
            <a:ext cx="561348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struc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omplex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eelle, imaginair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typedef struct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omplexe complex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main(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a, b = {1,0} 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 = b 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.reelle = cos(3.14159 /  2)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.imaginaire = sin(3.14159 /  2)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 = b + 1 ; /* ERREU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 = 2 + 3*i ;  /* ERREU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omme de 2 complex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totype (entête, profil) de la fonc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trées : 2 complexes a e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sultat : le complexe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omm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a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b 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gorithme : renvoyer le complexe ay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pour partie réelle, la somme des parties réelle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pour partie imaginaire, la somme des parties imagina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omme de 2 complexes 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omm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a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b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.reelle = a.reelle + b.reell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.imaginaire = a.imaginaire + b.imaginair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 ; </a:t>
            </a:r>
            <a:r>
              <a:rPr b="0" i="1" lang="fr-FR" sz="2000" spc="-1" strike="noStrike">
                <a:solidFill>
                  <a:srgbClr val="000000"/>
                </a:solidFill>
                <a:latin typeface="Arial Narrow"/>
              </a:rPr>
              <a:t>/* </a:t>
            </a:r>
            <a:r>
              <a:rPr b="0" i="1" lang="fr-FR" sz="20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i="1" lang="fr-FR" sz="2000" spc="-1" strike="noStrike">
                <a:solidFill>
                  <a:srgbClr val="000000"/>
                </a:solidFill>
                <a:latin typeface="Arial Narrow"/>
              </a:rPr>
              <a:t> (complexe) {a.reelle + b.reelle , a.imaginaire + b.imaginaire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 } ;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339933"/>
                </a:solidFill>
                <a:latin typeface="Times New Roman"/>
              </a:rPr>
              <a:t>Somme de trois nombres comple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om3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a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b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omme(a,somme(b,c)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Exemples d'algorithm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 puissance : 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= x.x.x.x.x.x.x.x.x = x.(x.(x.(x.(x.(x.(x.(x.(x)))))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gorithm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400" indent="0"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x.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400" indent="0"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CI, pour calculer 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il faut  n - 1 multi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Times New Roman"/>
              </a:rPr>
              <a:t>Autre solu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618ff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x.(x.x.x.x).(x.x.x.x) = x.(x.x.x.x)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x.((x.x)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x.((x 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gorith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400" indent="0"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= (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si n est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1400" indent="0"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n+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x.(x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ient 2.log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n) multi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Produit de 2 complex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roduit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a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.reelle = a.reelle * b.reelle - a.imaginaire * b.imaginair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.imaginaire = a.reelle * b.imaginaire + a.imaginaire * b.reell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Produit de quatre nombres comple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rod4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a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b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roduit(produit(a,b),produit(c,d)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Exponentiation d'un complexe 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68160" y="1142640"/>
            <a:ext cx="72644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uissanc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a, int n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 = (complexe){1,0}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=1 ; i &lt;= n ; i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 = produit(p,a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Module d'un complex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modul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qrt(a.reelle * a.reelle + a.imaginaire * a.imaginaire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476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Entrées/Sorties de complex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03280" y="1142640"/>
            <a:ext cx="734688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crir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ntf("%lf + i %lf",a.reelle, a.imaginaire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complex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1,1}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s'affiche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1 + 1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ire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omplex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a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ntf("partie réelle :") ; scanf("%lf",&amp;a.reelle)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ntf("partie imaginaire") ; scanf("%lf",&amp;a.imaginaire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a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Limite des structur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44575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struc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V3 { /* vecteur de dimension 3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x, y, z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struc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V3 addition (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struc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V3 a,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struc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V3 b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struc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V3 c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c.x = a.x + b.x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c.y = a.y + b.y 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c.z = a.z + b.z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c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40320" y="1143000"/>
            <a:ext cx="51181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struc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V30 { /* vecteur de dimension 30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x0, x1, x2, x3, x4, x5, x6,..., x29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struc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V30 addition (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struc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V30 a,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struc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V30 b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struc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V3 c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c.x0 = a.x0 + b.x0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c.x1 = a.x1 + b.x1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c.x2 = a.x2 + b.x2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c.x3 = a.x3 + b.x3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:::::::::::::::::::::::::::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c.x28 = a.x28 + b.x28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c.x29 = a.x29 + b.x29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c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ChapitreV : tableaux 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tableau est un ensemble de variables de même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tableau possède un nom et une taille (nombre d'élémen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laration :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ype 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nom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[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tail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ab[8] ; /* tableau de 8 entier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vecteur[5] ; /* tableau de  5 double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866960" y="3657600"/>
          <a:ext cx="6591240" cy="105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3657600"/>
                    <a:ext cx="659124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1886040" y="4800600"/>
          <a:ext cx="5200560" cy="949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6040" y="4800600"/>
                    <a:ext cx="52005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609480" y="5710320"/>
            <a:ext cx="88059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Les variables d'un tableau sont rangées de façon consécutive en mémo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33360" y="3652920"/>
            <a:ext cx="91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903240" y="4719600"/>
            <a:ext cx="12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e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Accès aux variabl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m d'une variable d'un tableau = nom du tableau + in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nom_du_tableau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0" i="1" lang="fr-FR" sz="2400" spc="-1" strike="noStrike">
                <a:solidFill>
                  <a:srgbClr val="000000"/>
                </a:solidFill>
                <a:latin typeface="Arial Narrow"/>
              </a:rPr>
              <a:t>indic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ab[0] = 2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ab[3] = 34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ab[6] = tab[2] * tab[4] +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ab[8] = -1 ; /*  erreu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L'indice du premier élément d'un tableau est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L'indice du dernier élément d'un tableau de k éléments est k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ab[8] ; /* 8 éléments, les indices vont de 0 à 7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5092560" y="2552760"/>
          <a:ext cx="5042160" cy="79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2560" y="2552760"/>
                    <a:ext cx="50421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4429080" y="2433600"/>
            <a:ext cx="91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Affectation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523880"/>
                <a:tab algn="l" pos="171468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ettre tous les éléments de tab à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523880"/>
                <a:tab algn="l" pos="171468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&gt;  mettre à 0, une à une,  les variables d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ab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71468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71468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#defin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AILL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71468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71468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71468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ab[TAILLE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71468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t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71468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 i = 0 ; i &lt; TAILLE 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71468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ab[i] =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171468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Affectation (2)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u[10], v[10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pier v dans 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u = v ; /* erreur : u est un tableau, pas une variabl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&gt; Une fonction ne peut pas renvoyer un tabl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for (i=0 ; i &lt; 10 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u[i] = v[i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u</a:t>
            </a: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 est une constante, on ne manipule que ses élé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Tableau passé en paramètr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58880" y="1142640"/>
            <a:ext cx="412776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écrir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[ 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aill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 = 0 ; i &lt; taille ; i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ntf("  %d ", t[i]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ab[8], poids[100]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écrire(tab, 8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écrire(poids,100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Passage d'un tableau en paramètr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7800" y="1143000"/>
            <a:ext cx="3384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écrire(</a:t>
            </a: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t[ ], </a:t>
            </a: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taille) 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{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i ;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(i = 0 ; i &lt; taille ; i++)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printf("  %d ", t[i]) ;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main()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{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tab[8], poids[100]  ;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...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écrire( tab, 8) ;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écrire(poids,100) ;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54360" y="1384200"/>
            <a:ext cx="4594320" cy="2413080"/>
          </a:xfrm>
          <a:prstGeom prst="rect">
            <a:avLst/>
          </a:prstGeom>
          <a:solidFill>
            <a:srgbClr val="ebff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54360" y="4127400"/>
            <a:ext cx="4594320" cy="1193760"/>
          </a:xfrm>
          <a:prstGeom prst="rect">
            <a:avLst/>
          </a:prstGeom>
          <a:solidFill>
            <a:srgbClr val="ebff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89640" y="3043080"/>
            <a:ext cx="91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5181480" y="2178000"/>
          <a:ext cx="4894560" cy="94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178000"/>
                    <a:ext cx="489456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4589640" y="2052720"/>
            <a:ext cx="91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82520" y="1427040"/>
            <a:ext cx="89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46440" y="1981080"/>
            <a:ext cx="461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46440" y="4648320"/>
            <a:ext cx="461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643280" y="4170240"/>
            <a:ext cx="319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écrire( t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, taille     8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470160"/>
            <a:ext cx="1621800" cy="393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49960" y="4235400"/>
            <a:ext cx="4003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30640" y="4795920"/>
            <a:ext cx="108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48440" y="4835520"/>
            <a:ext cx="3999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58920" y="5634000"/>
            <a:ext cx="7543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c0128"/>
                </a:solidFill>
                <a:latin typeface="Times New Roman"/>
              </a:rPr>
              <a:t>Le tableau n'est pas recopié lors de l'appel de la fonction : seule l'adresse du tableau est recopié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5334120" y="3048120"/>
          <a:ext cx="3841560" cy="958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048120"/>
                    <a:ext cx="384156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457200"/>
            <a:ext cx="8420040" cy="41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e que l'on fera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06632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lculer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n!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n peti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lculer l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fr-FR" sz="2400" spc="-1" strike="noStrike" baseline="30000">
                <a:solidFill>
                  <a:srgbClr val="000000"/>
                </a:solidFill>
                <a:latin typeface="Times New Roman"/>
              </a:rPr>
              <a:t>ième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rme d'une sui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ider si un nombr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st premi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aliser un jeu simp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lculer l'exponentielle d'un complex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lculer le produit d'un polynôm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40000"/>
              </a:lnSpc>
              <a:spcBef>
                <a:spcPts val="33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339933"/>
                </a:solidFill>
                <a:latin typeface="Times New Roman"/>
              </a:rPr>
              <a:t>Ce que l'on ne fera 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lculer des images de synthè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iloter un robo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alyser des logiciels exista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irater des logicie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muler une explosion thermo-nucléaire à l’aide de rayons laser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Passage d'un tableau en paramètre (2)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77800" y="1143000"/>
            <a:ext cx="3384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écrire(</a:t>
            </a: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t[ ], </a:t>
            </a: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taill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(i = 0 ; i &lt; taille ; i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printf("  %d ", t[i]) 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main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tab[8], poids[100]  ;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écrire( tab, 8) 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 Narrow"/>
              </a:rPr>
              <a:t>écrire( poids,100) 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54360" y="1384200"/>
            <a:ext cx="4594320" cy="2413080"/>
          </a:xfrm>
          <a:prstGeom prst="rect">
            <a:avLst/>
          </a:prstGeom>
          <a:solidFill>
            <a:srgbClr val="ebff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54360" y="4127400"/>
            <a:ext cx="4594320" cy="1193760"/>
          </a:xfrm>
          <a:prstGeom prst="rect">
            <a:avLst/>
          </a:prstGeom>
          <a:solidFill>
            <a:srgbClr val="ebff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5365800" y="3048120"/>
          <a:ext cx="3841560" cy="95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5800" y="3048120"/>
                    <a:ext cx="384156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4589640" y="3043080"/>
            <a:ext cx="91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589640" y="2052720"/>
            <a:ext cx="5233320" cy="950760"/>
            <a:chOff x="4589640" y="2052720"/>
            <a:chExt cx="5233320" cy="950760"/>
          </a:xfrm>
        </p:grpSpPr>
        <p:graphicFrame>
          <p:nvGraphicFramePr>
            <p:cNvPr id="430" name=""/>
            <p:cNvGraphicFramePr/>
            <p:nvPr/>
          </p:nvGraphicFramePr>
          <p:xfrm>
            <a:off x="4928040" y="2057400"/>
            <a:ext cx="4894920" cy="9460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28040" y="2057400"/>
                      <a:ext cx="4894920" cy="94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"/>
            <p:cNvSpPr/>
            <p:nvPr/>
          </p:nvSpPr>
          <p:spPr>
            <a:xfrm>
              <a:off x="4589640" y="2052720"/>
              <a:ext cx="91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t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682520" y="1427040"/>
            <a:ext cx="89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46440" y="1981080"/>
            <a:ext cx="461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46440" y="4648320"/>
            <a:ext cx="461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44360" y="4170240"/>
            <a:ext cx="339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écrire( t   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 ,    taille  100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64080" y="2451240"/>
            <a:ext cx="1127160" cy="195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207200" y="4216320"/>
            <a:ext cx="565200" cy="33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0640" y="4795920"/>
            <a:ext cx="108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248440" y="4835520"/>
            <a:ext cx="3999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Quelques fonctions sur les tableaux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rire des fonctions qui retourne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somme des éléments d'un tableau d'entier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produit des éléments d'un tableau d'entier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valeur du plus grand élément d'un tableau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'indice de la première case contenant une valeur passée en paramètre ; on retournera -1 si la valeur recherchée n'apparaît pas dans le tabl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re un programme qui lit (au clavier) deux vecteurs de dimension DIM puis qui affiche la somme et le produit scalaire de des vecte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omme des éléments d'un tableau d'entier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42680" y="1143000"/>
            <a:ext cx="3467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igma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[ 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aille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, s =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=0 ; i &lt; taille 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 = s + t[i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 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main(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, tab[8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 = sigma(tab,8) 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389480" y="1841400"/>
            <a:ext cx="4594320" cy="1575000"/>
          </a:xfrm>
          <a:prstGeom prst="rect">
            <a:avLst/>
          </a:prstGeom>
          <a:solidFill>
            <a:srgbClr val="ebff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14760" y="1884240"/>
            <a:ext cx="209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()               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81560" y="2438280"/>
            <a:ext cx="172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389480" y="4051440"/>
            <a:ext cx="4594320" cy="1193760"/>
          </a:xfrm>
          <a:prstGeom prst="rect">
            <a:avLst/>
          </a:prstGeom>
          <a:solidFill>
            <a:srgbClr val="ebff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81560" y="4572000"/>
            <a:ext cx="461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79120" y="4094280"/>
            <a:ext cx="3232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igma( t   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,    taille   8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85080" y="4184640"/>
            <a:ext cx="3999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65760" y="4719600"/>
            <a:ext cx="108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083200" y="4759200"/>
            <a:ext cx="3999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4424400" y="2585880"/>
            <a:ext cx="5233680" cy="951120"/>
            <a:chOff x="4424400" y="2585880"/>
            <a:chExt cx="5233680" cy="951120"/>
          </a:xfrm>
        </p:grpSpPr>
        <p:graphicFrame>
          <p:nvGraphicFramePr>
            <p:cNvPr id="455" name=""/>
            <p:cNvGraphicFramePr/>
            <p:nvPr/>
          </p:nvGraphicFramePr>
          <p:xfrm>
            <a:off x="4763160" y="2590920"/>
            <a:ext cx="4894920" cy="9460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63160" y="2590920"/>
                      <a:ext cx="4894920" cy="94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7" name=""/>
            <p:cNvSpPr/>
            <p:nvPr/>
          </p:nvSpPr>
          <p:spPr>
            <a:xfrm>
              <a:off x="4424400" y="2585880"/>
              <a:ext cx="91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t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6108840" y="183528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75560" y="1987560"/>
            <a:ext cx="3175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434280" y="4719600"/>
            <a:ext cx="108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51720" y="4759200"/>
            <a:ext cx="3999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16400" y="1460520"/>
            <a:ext cx="1292040" cy="286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omme des éléments d'un tableau d'entier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47680" y="1142640"/>
            <a:ext cx="454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540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sigma(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t[ ],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taille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i, s = 0 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i=0 ; i &lt; taille ; i++)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 = s + t[i] 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s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5400"/>
                <a:tab algn="l" pos="2858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62080" y="3137040"/>
            <a:ext cx="4593960" cy="1574640"/>
          </a:xfrm>
          <a:prstGeom prst="rect">
            <a:avLst/>
          </a:prstGeom>
          <a:solidFill>
            <a:srgbClr val="ebff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7360" y="3179880"/>
            <a:ext cx="209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()               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4160" y="3733920"/>
            <a:ext cx="172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62080" y="5346720"/>
            <a:ext cx="4593960" cy="1193760"/>
          </a:xfrm>
          <a:prstGeom prst="rect">
            <a:avLst/>
          </a:prstGeom>
          <a:solidFill>
            <a:srgbClr val="ebff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54160" y="5867280"/>
            <a:ext cx="460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1720" y="5389560"/>
            <a:ext cx="316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igma( t   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,    taille  8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33840" y="5479920"/>
            <a:ext cx="3999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38360" y="6014880"/>
            <a:ext cx="108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55800" y="6054840"/>
            <a:ext cx="3999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97000" y="3881520"/>
            <a:ext cx="5233320" cy="950760"/>
            <a:chOff x="297000" y="3881520"/>
            <a:chExt cx="5233320" cy="950760"/>
          </a:xfrm>
        </p:grpSpPr>
        <p:graphicFrame>
          <p:nvGraphicFramePr>
            <p:cNvPr id="475" name=""/>
            <p:cNvGraphicFramePr/>
            <p:nvPr/>
          </p:nvGraphicFramePr>
          <p:xfrm>
            <a:off x="635760" y="3886200"/>
            <a:ext cx="4894560" cy="9460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5760" y="3886200"/>
                      <a:ext cx="4894560" cy="94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7" name=""/>
            <p:cNvSpPr/>
            <p:nvPr/>
          </p:nvSpPr>
          <p:spPr>
            <a:xfrm>
              <a:off x="297000" y="3881520"/>
              <a:ext cx="918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t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981080" y="31305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647800" y="3282840"/>
            <a:ext cx="3175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06520" y="6014880"/>
            <a:ext cx="108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523960" y="6054840"/>
            <a:ext cx="4003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64000" y="1606680"/>
            <a:ext cx="3381480" cy="387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i = 0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 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= s + t[i] = 0 + t[0] = 0 +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i = 1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 =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 = s + t[i] = 12 + t[1] = 12  -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i = 2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 =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i = 7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 = 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= s + t[i] = 41 + t[7] = 41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i = 8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s = 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retourne 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372280" y="1981080"/>
            <a:ext cx="3371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372280" y="2666880"/>
            <a:ext cx="3371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72280" y="4419720"/>
            <a:ext cx="3371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72280" y="5029200"/>
            <a:ext cx="3371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72280" y="3429000"/>
            <a:ext cx="3371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89000" y="2756160"/>
            <a:ext cx="1292040" cy="286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382896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Produit des éléments d'un tableau d'entier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724280" y="533160"/>
            <a:ext cx="388008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roduit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[ 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ai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, p = t[0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=1 ; i &lt; taille 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 = p * t[i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p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724280" y="3505320"/>
            <a:ext cx="38800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max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[ 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aille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, m = t[0] 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=1 ; i &lt; taille ; i++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t[i] &gt; m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 = t[i] 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m 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4191120"/>
            <a:ext cx="3733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Plus grand élément d'un tableau d'ent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Recherche d'une valeur dans un tableau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lculer l'indice de la première case contenant une valeur passée en paramètre ; on retournera -1 si la valeur recherchée n'apparait pas dans le tabl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dice de 12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dice de 0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dice de 34 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totyp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ndic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[ 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aille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val) ;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4767120" y="2971800"/>
          <a:ext cx="4065840" cy="94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7120" y="2971800"/>
                    <a:ext cx="406584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4424400" y="2967120"/>
            <a:ext cx="91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Recherche d'une valeur dans un tableau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77440" y="1142640"/>
            <a:ext cx="445788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ndic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[ 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aille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val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=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i &lt; taille &amp;&amp; t[i] != v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++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i &lt; taille)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-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dice(tab, 8, 12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dice(tab, 8, 3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indice(tab, 8, 34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3846600" y="5024520"/>
            <a:ext cx="5233680" cy="950760"/>
            <a:chOff x="3846600" y="5024520"/>
            <a:chExt cx="5233680" cy="950760"/>
          </a:xfrm>
        </p:grpSpPr>
        <p:graphicFrame>
          <p:nvGraphicFramePr>
            <p:cNvPr id="501" name=""/>
            <p:cNvGraphicFramePr/>
            <p:nvPr/>
          </p:nvGraphicFramePr>
          <p:xfrm>
            <a:off x="4185000" y="5029200"/>
            <a:ext cx="4895280" cy="9460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85000" y="5029200"/>
                      <a:ext cx="4895280" cy="94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3" name=""/>
            <p:cNvSpPr/>
            <p:nvPr/>
          </p:nvSpPr>
          <p:spPr>
            <a:xfrm>
              <a:off x="3846600" y="5024520"/>
              <a:ext cx="91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 Narrow"/>
                </a:rPr>
                <a:t>t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200560" y="1143000"/>
            <a:ext cx="4127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ndice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[ 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aille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val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i = 0 ; i &lt; taille 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t[i] == val)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fc0128"/>
                </a:solidFill>
                <a:latin typeface="Arial Narrow"/>
              </a:rPr>
              <a:t>/* surtout pas de else !!!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-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1149480"/>
            <a:ext cx="0" cy="318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Vecteur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er le comportement suiva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8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8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elle est la dimension de l'espace vectoriel 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8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tre le premier vecteur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2.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8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tre le second vecteur 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8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 produit scalaire de (12.0 , 1.5) et de (0.5 , 10) est 2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8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ur somme est égale à (12.5 , 11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Vecteur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/* Ecrire un vecteur -- exemple (1.23 , 123 , -34.44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écrire_vecteur (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u[ ],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dim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rintf ("( %lf",u[0]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i=1 ; i &lt; dim ; i++) printf(" , %lf",u[i]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 baseline="-25000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rintf(" )"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prodsca(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u[ ],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v[ ], 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dim)  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/*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roduit scalaire*/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i 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p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i=0 ; i &lt; dim 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 = p + u[i] * v[i]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p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162080" y="4502160"/>
            <a:ext cx="3619440" cy="1587600"/>
          </a:xfrm>
          <a:prstGeom prst="rect">
            <a:avLst/>
          </a:prstGeom>
          <a:solidFill>
            <a:srgbClr val="ebf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Lecture d'un vecteur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trée : une dimensio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rtie : un tableau dont les k premières cases ont été affecté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totype : on ne peut pas affecter directement  un table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 = lire_vecteur(k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t inter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ire_vecteur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v[ 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im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804960" y="5410080"/>
          <a:ext cx="4084560" cy="94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4960" y="5410080"/>
                    <a:ext cx="408456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1122480" y="5024520"/>
            <a:ext cx="91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33360" y="4491000"/>
            <a:ext cx="339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62080" y="4952880"/>
            <a:ext cx="361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207040" y="4502160"/>
            <a:ext cx="3618000" cy="1587600"/>
          </a:xfrm>
          <a:prstGeom prst="rect">
            <a:avLst/>
          </a:prstGeom>
          <a:solidFill>
            <a:srgbClr val="ebf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278320" y="4491000"/>
            <a:ext cx="3559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ire_vecteur( v   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 dim  2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207040" y="4952880"/>
            <a:ext cx="36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034480" y="4540320"/>
            <a:ext cx="3981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500120" y="4813200"/>
            <a:ext cx="5775840" cy="1663920"/>
            <a:chOff x="1500120" y="4813200"/>
            <a:chExt cx="5775840" cy="1663920"/>
          </a:xfrm>
        </p:grpSpPr>
        <p:sp>
          <p:nvSpPr>
            <p:cNvPr id="523" name=""/>
            <p:cNvSpPr/>
            <p:nvPr/>
          </p:nvSpPr>
          <p:spPr>
            <a:xfrm flipH="1">
              <a:off x="5928480" y="4813200"/>
              <a:ext cx="1347480" cy="165096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1967400" y="6477120"/>
              <a:ext cx="398844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500120" y="5803920"/>
              <a:ext cx="467640" cy="6602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3627360" y="3728880"/>
            <a:ext cx="25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ire_vecteur(tab,2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172200" y="2286000"/>
            <a:ext cx="3505320" cy="22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asic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0 for i = 1 to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0    k = k + 1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30    next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5716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40 goto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Langage de programmation 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ngage défini par une syntaxe (grammaire) très simple et très rigoureuse (non ambiguë) permettant de décrire l'enchaînement d'instr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. Langage machine (assemble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9072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i $1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9072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$4,0xFFFF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9072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i $2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9072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ddi $3, $2, $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ératifs : cobol, fortran, algol, pascal, C, modula, 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ls : lisp, scheme,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ogique : pro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t : smalltalk, C++, eiffel,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lire_vecteur()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523520" y="1142640"/>
            <a:ext cx="48704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ire_vecteur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v[ 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im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i = 0 ; i &lt; dim 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canf("%lf", &amp;v[i]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43040" y="3429000"/>
            <a:ext cx="84200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addition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49440" y="3962520"/>
            <a:ext cx="66038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addition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r[ 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u[ ] 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v[ 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im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   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/* r = u + v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i = 0 ; i &lt; dim 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[i] = u[i] + v[i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Vecteurs : programme principa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43040" y="1142640"/>
            <a:ext cx="42926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#define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MAX 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main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{</a:t>
            </a:r>
            <a:br>
              <a:rPr sz="2200"/>
            </a:b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d ; /* dimension 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618ffd"/>
                </a:solidFill>
                <a:latin typeface="Arial Narrow"/>
              </a:rPr>
              <a:t>double</a:t>
            </a: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x[MAX], y[MAX] , res[MAX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printf(" Quelle ... ? ") 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scanf("%d",&amp;d) 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printf("Entre le premier vecteur") 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lire_vecteur(x,d) 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printf("Entre le second vecteur") 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lire_vecteur(y,d) 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printf("le produit scalaire de ") 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ecrire_vecteur(x,d) 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 Narrow"/>
              </a:rPr>
              <a:t>printf("et de") 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1295280"/>
            <a:ext cx="4816440" cy="1581480"/>
          </a:xfrm>
          <a:prstGeom prst="rect">
            <a:avLst/>
          </a:prstGeom>
          <a:solidFill>
            <a:srgbClr val="ebf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elle est la dimension de l'espace vectoriel ?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ntre le premier vecteur 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2.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ntre le second vecteur 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e produit scalaire de (12.0,1.5) et de (0.5,10) est 2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eur somme est égale à (12.5 , 11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52880" y="3809880"/>
            <a:ext cx="470556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ecrire_vecteur(y,d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rintf("est %lf\n", prodsca(x,y,d) 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printf("Leur somme est égale à"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addition(res,x,y,d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ecrire_vecteur(res,d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Algèbre de Boole  (1847)</a:t>
            </a:r>
            <a:br>
              <a:rPr sz="3200"/>
            </a:b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éments 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faux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vra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pérations :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Vrai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Vrai  = Vrai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Vrai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Faux  = F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Faux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 Vrai = F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Faux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Faux = F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éments neu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utative 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b = b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stributiv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(a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u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c = (a ou c) et (b ou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ssociative 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(a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 = a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(b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gèbre complémenté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n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non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Vra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Fau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, non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Fau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Vr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626080" y="1965240"/>
            <a:ext cx="3365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rai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Vrai = Vr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rai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aux = Vr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u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Vrai  = Vr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u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aux = F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Preuve par énumération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ois de Morga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n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ou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 non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et non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n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 non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ou non(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l existe 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opérations binair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uver 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a =&gt; b) =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de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non(a) ou non(b) =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de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(non(b) =&gt; non(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a &lt;=&gt; b) =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de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 a =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809960" y="1143000"/>
          <a:ext cx="4353120" cy="180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960" y="1143000"/>
                    <a:ext cx="435312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2279520" y="3657600"/>
          <a:ext cx="1594080" cy="1407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79520" y="3657600"/>
                    <a:ext cx="159408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4724280" y="3657600"/>
          <a:ext cx="1594080" cy="14079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3657600"/>
                    <a:ext cx="159408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7389720" y="3651120"/>
          <a:ext cx="1587600" cy="1386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89720" y="3651120"/>
                    <a:ext cx="1587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pérations booléennes en langage C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utilise les entiers pour coder les boolée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ésen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u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ous les autres entiers représenta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ra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&amp;&amp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et alors : et non commut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||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ou sinon : ou non commutat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x &amp;&amp; y)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x != 0 &amp;&amp; y !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! x || y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x == 0 ||  y !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omparaisons sont d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ressions booléenn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&gt; 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radu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ra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 différent de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onjonction et disjonction  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34340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1523880"/>
                <a:tab algn="l" pos="1720800"/>
                <a:tab algn="l" pos="19969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it t un tableau de n boolée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1523880"/>
                <a:tab algn="l" pos="1720800"/>
                <a:tab algn="l" pos="19969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lculer t[0] et t[1] et … et t[n-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1523880"/>
                <a:tab algn="l" pos="1720800"/>
                <a:tab algn="l" pos="19969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1523880"/>
                <a:tab algn="l" pos="1720800"/>
                <a:tab algn="l" pos="19969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onjonction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1523880"/>
                <a:tab algn="l" pos="1720800"/>
                <a:tab algn="l" pos="19969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 i = 0 ; i &lt; n 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1523880"/>
                <a:tab algn="l" pos="1720800"/>
                <a:tab algn="l" pos="19969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!t[i])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1523880"/>
                <a:tab algn="l" pos="1720800"/>
                <a:tab algn="l" pos="19969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1523880"/>
                <a:tab algn="l" pos="1720800"/>
                <a:tab algn="l" pos="19969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1523880"/>
                <a:tab algn="l" pos="1720800"/>
                <a:tab algn="l" pos="19969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1523880"/>
                <a:tab algn="l" pos="1720800"/>
                <a:tab algn="l" pos="19969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 i = 0 ; i &lt; n - 1 &amp;&amp; t[i] ; i++) ;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1523880"/>
                <a:tab algn="l" pos="1720800"/>
                <a:tab algn="l" pos="19969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[i]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81480" y="1143000"/>
            <a:ext cx="45720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196920"/>
                <a:tab algn="l" pos="380880"/>
                <a:tab algn="l" pos="577800"/>
                <a:tab algn="l" pos="1523880"/>
                <a:tab algn="l" pos="1720800"/>
                <a:tab algn="l" pos="19969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it t un tableau de n boolée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196920"/>
                <a:tab algn="l" pos="380880"/>
                <a:tab algn="l" pos="577800"/>
                <a:tab algn="l" pos="1523880"/>
                <a:tab algn="l" pos="1720800"/>
                <a:tab algn="l" pos="19969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lculer t[0] ou t[1] ou … ou t[n-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196920"/>
                <a:tab algn="l" pos="380880"/>
                <a:tab algn="l" pos="577800"/>
                <a:tab algn="l" pos="1523880"/>
                <a:tab algn="l" pos="1720800"/>
                <a:tab algn="l" pos="19969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6920"/>
                <a:tab algn="l" pos="380880"/>
                <a:tab algn="l" pos="577800"/>
                <a:tab algn="l" pos="1523880"/>
                <a:tab algn="l" pos="1720800"/>
                <a:tab algn="l" pos="19969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isjonction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 i = 0 ; i &lt; n 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6920"/>
                <a:tab algn="l" pos="380880"/>
                <a:tab algn="l" pos="577800"/>
                <a:tab algn="l" pos="1523880"/>
                <a:tab algn="l" pos="1720800"/>
                <a:tab algn="l" pos="19969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t[i])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6920"/>
                <a:tab algn="l" pos="380880"/>
                <a:tab algn="l" pos="577800"/>
                <a:tab algn="l" pos="1523880"/>
                <a:tab algn="l" pos="1720800"/>
                <a:tab algn="l" pos="19969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6920"/>
                <a:tab algn="l" pos="380880"/>
                <a:tab algn="l" pos="577800"/>
                <a:tab algn="l" pos="1523880"/>
                <a:tab algn="l" pos="1720800"/>
                <a:tab algn="l" pos="19969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96920"/>
                <a:tab algn="l" pos="380880"/>
                <a:tab algn="l" pos="577800"/>
                <a:tab algn="l" pos="1523880"/>
                <a:tab algn="l" pos="1720800"/>
                <a:tab algn="l" pos="19969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96920"/>
                <a:tab algn="l" pos="380880"/>
                <a:tab algn="l" pos="577800"/>
                <a:tab algn="l" pos="1523880"/>
                <a:tab algn="l" pos="1720800"/>
                <a:tab algn="l" pos="19969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 i = 0 ; i &lt; n - 1 &amp;&amp; !t[i] ; i++) ;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96920"/>
                <a:tab algn="l" pos="380880"/>
                <a:tab algn="l" pos="577800"/>
                <a:tab algn="l" pos="1523880"/>
                <a:tab algn="l" pos="1720800"/>
                <a:tab algn="l" pos="19969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[i]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1143000"/>
            <a:ext cx="0" cy="5257800"/>
          </a:xfrm>
          <a:prstGeom prst="line">
            <a:avLst/>
          </a:prstGeom>
          <a:ln w="28440">
            <a:solidFill>
              <a:srgbClr val="d2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Démonstration automatiqu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ux fonctions booléennes de même arité (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érifier s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er pou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utes les configurations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 f(t) == g(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0 0 0 0 0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 0 0 0 0 0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  0 0 0 0 1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  0 0 0 0 1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  0 0 0 1 0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  0 0 0 1 0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  0 0 0 1 1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   0 0 0 1 1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76720" y="2819520"/>
            <a:ext cx="50292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successeur(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t[]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br>
              <a:rPr sz="2400"/>
            </a:b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 = 0 ; i &lt; n &amp;&amp; t[i] ; i++) t[i] =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i == n)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0 ; /* 1 1 1 1 -&gt; 0 0 0 0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[i] 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196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Démonstration automatique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743200" y="1676520"/>
            <a:ext cx="46483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egal(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f() ,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g(), 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{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fo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i = 0 ; i &lt; n ; i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t[i] =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whil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 f(t) == g(t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if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( !successeur(t,n)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retur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0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920"/>
                <a:tab algn="l" pos="380880"/>
                <a:tab algn="l" pos="5778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odage des caractères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42680" y="1142640"/>
            <a:ext cx="8420040" cy="53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de ASC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erican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andard for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mmunication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ternational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ter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erica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andar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ding fo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form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terchan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erica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andar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de fo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form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terchan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dage des caractères (anglo-saxons) sur 7 bit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'0' -&gt; 48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'1' -&gt; 49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'A' -&gt; 65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'Z' -&gt;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'a' -&gt; 97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'z' -&gt; 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de ISO-LATIN-1 :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de ASCII étendu (8 bits) aux caractères accentué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ICODE :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dage permettant de coder la plupart des écri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ode ASCII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50960" y="1600200"/>
            <a:ext cx="3897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gramme affichant le code ASCII d'un caractère lu au clavie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mai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canf("%c", &amp;c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ntf("%d", c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3680"/>
                <a:tab algn="l" pos="385920"/>
                <a:tab algn="l" pos="568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716360" y="1527120"/>
            <a:ext cx="457992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gramme affichant le caractère correspondant à un  code ASCII lu au clavie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voi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mai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618ffd"/>
                </a:solidFill>
                <a:latin typeface="Arial Narrow"/>
              </a:rPr>
              <a:t>char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c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canf("%d", &amp;c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intf("%c", c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93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131840" y="5715000"/>
            <a:ext cx="68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variable c contient un entier désignant un caractè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495680" y="1676520"/>
            <a:ext cx="0" cy="3962160"/>
          </a:xfrm>
          <a:prstGeom prst="line">
            <a:avLst/>
          </a:prstGeom>
          <a:ln w="28440">
            <a:solidFill>
              <a:srgbClr val="d2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5T16:35:24Z</dcterms:created>
  <dc:creator>Pierre-André</dc:creator>
  <dc:description/>
  <dc:language>en-US</dc:language>
  <cp:lastModifiedBy>henry</cp:lastModifiedBy>
  <cp:lastPrinted>1998-11-02T09:01:20Z</cp:lastPrinted>
  <dcterms:modified xsi:type="dcterms:W3CDTF">2000-10-06T01:26:42Z</dcterms:modified>
  <cp:revision>86</cp:revision>
  <dc:subject/>
  <dc:title>Introduction  à la  program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wacrenier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es documents\pierre-andré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